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FBD-F416-4B09-B55D-1D423518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944-6A82-46D2-AC04-726D1EC6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BA8-CC04-4A4B-90C1-49E4FA8A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8F8-BA2F-4B54-9296-43868B96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044-1588-49D7-812C-DEAA553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024-03E5-4B09-B0C0-08B17FF0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231-0B92-44E2-93B7-9D1F05C6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A0B-BBB5-4EBD-8DA1-44D1403C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F64-D6F0-4048-88CA-40A79D2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840-39E6-48C7-A5F4-DE34CA2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831-C318-4162-BE30-9C6FF374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BE8-9A6A-4F89-8B28-954477F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2EE2-93EA-40C7-80B9-F2B38573B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&amp;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ason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Seas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at is your favorite sea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Each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ree leaves turn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sea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6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t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the sea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e will use a yellow square for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e will use an orange square for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 will use a light blue square for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e will a green square for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n we will glue our pictures onto our big 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Now we have a picture of all of the seas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9:48:18Z</dcterms:created>
  <dc:creator>Littleton Prep</dc:creator>
  <dc:description/>
  <dc:language>en-US</dc:language>
  <cp:lastModifiedBy>Littleton Prep</cp:lastModifiedBy>
  <dcterms:modified xsi:type="dcterms:W3CDTF">2008-02-21T19:50:41Z</dcterms:modified>
  <cp:revision>2</cp:revision>
  <dc:subject/>
  <dc:title>Seasons &amp; Weather</dc:title>
</cp:coreProperties>
</file>