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259-3406-4D56-BB24-AB7FBDF8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86E-CF14-4C85-9AB0-793C9881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1B4-AE49-432E-8EF0-91F3FD97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7FC-B646-40F5-A638-6E7B2E64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F9F-C5D2-4E86-AA76-B81D450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281-151B-4A84-800F-51C581DC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A1B-6C81-44DB-9925-9ECA26AF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711-03A0-436A-A27C-32A3BFF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BD7B-27C9-420E-ACD6-A11E322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3BA-570E-4416-86B6-D758F0E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316-9736-46CB-8B79-81E393AD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2F3-8F0A-4BE3-A300-D01B431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143-16C0-498A-8E2C-7A3BE08CE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&amp; 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ason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Seas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at is your favorite sea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Each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ree leaves turn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sea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54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6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t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eason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the sea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e will use a yellow square for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e will use an orange square for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e will use a light blue square for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e will a green square for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n we will glue our pictures onto our big 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Now we have a picture of all of the seas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9:48:18Z</dcterms:created>
  <dc:creator>Littleton Prep</dc:creator>
  <dc:description/>
  <dc:language>en-US</dc:language>
  <cp:lastModifiedBy>Littleton Prep</cp:lastModifiedBy>
  <dcterms:modified xsi:type="dcterms:W3CDTF">2008-02-21T19:50:41Z</dcterms:modified>
  <cp:revision>2</cp:revision>
  <dc:subject/>
  <dc:title>Seasons &amp; Weather</dc:title>
</cp:coreProperties>
</file>