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7E14-1DEE-4AE2-8211-D518FB390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090AE-406A-4903-A1D9-F1BBE7F09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1A925-0C1A-4EA7-A4F8-09F38C7C2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ECDE1-4C95-4421-A694-ADB29953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8A75A-C2F2-4574-B8E7-DBA24798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E9385-C72C-4A46-9C85-CE9FC74B8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128B6-A932-4FBE-8C13-0CABD77C4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C45EB-F880-4AA4-8D58-F5A2DF4AC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3623-5CCD-4093-B6C4-150294DE5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B9CD-27FE-4701-9BDB-77CAAC02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74AA-F69F-47A9-AAC4-33AC0BDE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F852-0857-4C94-ADB5-97442AB70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F8E4-A270-459E-8EDE-07F03BD77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hyperlink" Target="http://en.wikipedia.org/wiki/Inanimate" TargetMode="External"/><Relationship Id="rId3" Type="http://schemas.openxmlformats.org/officeDocument/2006/relationships/hyperlink" Target="http://en.wikipedia.org/wiki/Painting" TargetMode="External"/><Relationship Id="rId4" Type="http://schemas.openxmlformats.org/officeDocument/2006/relationships/hyperlink" Target="http://en.wikipedia.org/wiki/Landscape_art" TargetMode="External"/><Relationship Id="rId5" Type="http://schemas.openxmlformats.org/officeDocument/2006/relationships/hyperlink" Target="http://en.wikipedia.org/wiki/Portrait"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a/ac/Pompejanischer_Maler_um_70_001.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biblio.org/wm/paint/glo/impressionis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ages Can You Think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Apples </a:t>
            </a:r>
            <a:br>
              <a:rPr sz="2800"/>
            </a:br>
            <a:r>
              <a:rPr b="0" i="1" lang="en-US" sz="2800" spc="-1" strike="noStrike">
                <a:solidFill>
                  <a:srgbClr val="000000"/>
                </a:solidFill>
                <a:latin typeface="Arial"/>
              </a:rPr>
              <a:t>c. 1890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04920" y="1523880"/>
            <a:ext cx="6743520" cy="50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Peppermint Bottle</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533520" y="1523880"/>
            <a:ext cx="6095880" cy="490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Basket of Apples</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609480" y="1600200"/>
            <a:ext cx="6562800" cy="498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Water Jug </a:t>
            </a:r>
            <a:br>
              <a:rPr sz="2800"/>
            </a:br>
            <a:r>
              <a:rPr b="0" i="1" lang="en-US" sz="2800" spc="-1" strike="noStrike">
                <a:solidFill>
                  <a:srgbClr val="000000"/>
                </a:solidFill>
                <a:latin typeface="Arial"/>
              </a:rPr>
              <a:t>c. 1892-3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762120" y="1523880"/>
            <a:ext cx="6867360" cy="50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Compotier, Pitcher, and Fruit (Nature morte) </a:t>
            </a:r>
            <a:br>
              <a:rPr sz="2800"/>
            </a:br>
            <a:r>
              <a:rPr b="0" i="1" lang="en-US" sz="2800" spc="-1" strike="noStrike">
                <a:solidFill>
                  <a:srgbClr val="000000"/>
                </a:solidFill>
                <a:latin typeface="Arial"/>
              </a:rPr>
              <a:t>1892-94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676520"/>
            <a:ext cx="6524640" cy="49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Le vase paillé </a:t>
            </a:r>
            <a:br>
              <a:rPr sz="2800"/>
            </a:br>
            <a:r>
              <a:rPr b="0" i="1" lang="en-US" sz="2800" spc="-1" strike="noStrike">
                <a:solidFill>
                  <a:srgbClr val="000000"/>
                </a:solidFill>
                <a:latin typeface="Arial"/>
              </a:rPr>
              <a:t>c. 1895 (170 Kb); Ginger Jar and Fruit;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8600" y="1523880"/>
            <a:ext cx="4010040" cy="498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Chrysanthemums (Vase fleuri) </a:t>
            </a:r>
            <a:br>
              <a:rPr sz="2800"/>
            </a:br>
            <a:r>
              <a:rPr b="0" i="1" lang="en-US" sz="2800" spc="-1" strike="noStrike">
                <a:solidFill>
                  <a:srgbClr val="000000"/>
                </a:solidFill>
                <a:latin typeface="Arial"/>
              </a:rPr>
              <a:t>1896-98 (Rewald); c.1900 (16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1523880"/>
            <a:ext cx="4086360" cy="482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Pyramid of Skulls </a:t>
            </a:r>
            <a:br>
              <a:rPr sz="2800"/>
            </a:br>
            <a:r>
              <a:rPr b="0" i="1" lang="en-US" sz="2800" spc="-1" strike="noStrike">
                <a:solidFill>
                  <a:srgbClr val="000000"/>
                </a:solidFill>
                <a:latin typeface="Arial"/>
              </a:rPr>
              <a:t>c. 1901 (13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380880" y="1523880"/>
            <a:ext cx="609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Watermelon and Pomegranates</a:t>
            </a:r>
            <a:r>
              <a:rPr b="0" lang="en-US" sz="2800" spc="-1" strike="noStrike">
                <a:solidFill>
                  <a:srgbClr val="000000"/>
                </a:solidFill>
                <a:latin typeface="Arial"/>
              </a:rPr>
              <a:t>  1900-1906</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57200" y="1371600"/>
            <a:ext cx="7724880" cy="50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Graphic"/>
          <p:cNvPicPr/>
          <p:nvPr/>
        </p:nvPicPr>
        <p:blipFill>
          <a:blip r:embed="rId1"/>
          <a:stretch/>
        </p:blipFill>
        <p:spPr>
          <a:xfrm>
            <a:off x="533520" y="1600200"/>
            <a:ext cx="350496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till life</a:t>
            </a:r>
            <a:r>
              <a:rPr b="0" lang="en-US" sz="2800" spc="-1" strike="noStrike">
                <a:solidFill>
                  <a:srgbClr val="000000"/>
                </a:solidFill>
                <a:latin typeface="Arial"/>
              </a:rPr>
              <a:t> is a work of </a:t>
            </a:r>
            <a:r>
              <a:rPr b="0" lang="en-US" sz="2800" spc="-1" strike="noStrike" u="sng">
                <a:solidFill>
                  <a:srgbClr val="009999"/>
                </a:solidFill>
                <a:uFillTx/>
                <a:latin typeface="Arial"/>
                <a:hlinkClick r:id="rId1"/>
              </a:rPr>
              <a:t>art</a:t>
            </a:r>
            <a:r>
              <a:rPr b="0" lang="en-US" sz="2800" spc="-1" strike="noStrike">
                <a:solidFill>
                  <a:srgbClr val="000000"/>
                </a:solidFill>
                <a:latin typeface="Arial"/>
              </a:rPr>
              <a:t> depicting </a:t>
            </a:r>
            <a:r>
              <a:rPr b="0" lang="en-US" sz="2800" spc="-1" strike="noStrike" u="sng">
                <a:solidFill>
                  <a:srgbClr val="009999"/>
                </a:solidFill>
                <a:uFillTx/>
                <a:latin typeface="Arial"/>
                <a:hlinkClick r:id="rId2"/>
              </a:rPr>
              <a:t>inanimate</a:t>
            </a:r>
            <a:r>
              <a:rPr b="0" lang="en-US" sz="2800" spc="-1" strike="noStrike">
                <a:solidFill>
                  <a:srgbClr val="000000"/>
                </a:solidFill>
                <a:latin typeface="Arial"/>
              </a:rPr>
              <a:t> subject matter, typically commonplace objects which may be either natural (food, plants and natural substances like rocks) or man-made (drinking glasses,hotdogs and so on) in an artificial setting. Popular in Western art since the 17th century, still life </a:t>
            </a:r>
            <a:r>
              <a:rPr b="0" lang="en-US" sz="2800" spc="-1" strike="noStrike" u="sng">
                <a:solidFill>
                  <a:srgbClr val="009999"/>
                </a:solidFill>
                <a:uFillTx/>
                <a:latin typeface="Arial"/>
                <a:hlinkClick r:id="rId3"/>
              </a:rPr>
              <a:t>paintings</a:t>
            </a:r>
            <a:r>
              <a:rPr b="0" lang="en-US" sz="2800" spc="-1" strike="noStrike">
                <a:solidFill>
                  <a:srgbClr val="000000"/>
                </a:solidFill>
                <a:latin typeface="Arial"/>
              </a:rPr>
              <a:t> give the artist more leeway in the arrangement of design elements within a composition than do paintings of other types of subjects such as </a:t>
            </a:r>
            <a:r>
              <a:rPr b="0" lang="en-US" sz="2800" spc="-1" strike="noStrike" u="sng">
                <a:solidFill>
                  <a:srgbClr val="009999"/>
                </a:solidFill>
                <a:uFillTx/>
                <a:latin typeface="Arial"/>
                <a:hlinkClick r:id="rId4"/>
              </a:rPr>
              <a:t>landscape</a:t>
            </a:r>
            <a:r>
              <a:rPr b="0" lang="en-US" sz="2800" spc="-1" strike="noStrike">
                <a:solidFill>
                  <a:srgbClr val="000000"/>
                </a:solidFill>
                <a:latin typeface="Arial"/>
              </a:rPr>
              <a:t> or </a:t>
            </a:r>
            <a:r>
              <a:rPr b="0" lang="en-US" sz="2800" spc="-1" strike="noStrike" u="sng">
                <a:solidFill>
                  <a:srgbClr val="009999"/>
                </a:solidFill>
                <a:uFillTx/>
                <a:latin typeface="Arial"/>
                <a:hlinkClick r:id="rId5"/>
              </a:rPr>
              <a:t>portrai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Life and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ézanne was born in the southern French town of Aix-en-Provence, January 19, 1839, the son of a wealthy banker. His boyhood companion was émile Zola, who later gained fame as a novelist and man of letters. As did Zola, Cézanne developed artistic interests at an early age, much to the dismay of his father. In 1862, after a number of bitter family disputes, the aspiring artist was given a small allowance and sent to study art in Paris, where Zola had already gone. From the start he was drawn to the more radical elements of the Parisian art world. He especially admired the romantic painter Eugène Delacroix and, among the younger masters, Gustave Courbet and the notorious édouard Manet, who exhibited realist paintings that were shocking in both style and subject matter to most of their contempor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ce of Cézanne's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years Cézanne was known only to his old impressionist colleagues and to a few younger radical postimpressionist artists, including the Dutch painter Vincent van Gogh and the French painter Paul Gauguin. In 1895, however, Ambroise Vollard, an ambitious Paris art dealer, arranged a show of Cézanne's works and over the next few years promoted them successfully. By 1904, Cézanne was featured in a major official exhibition, and by the time of his death (in Aix on October 22, 1906) he had attained the status of a legendary figure. The intensity of his color, coupled with the apparent rigor of his compositional organization, signaled to most that, despite the artist's own frequent despair, he had synthesized the basic expressive and representational elements of painting in a highly original man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things can be included in a still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Pompeian painter around 70 AD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Pompejanischer Maler um 70 001.jpg">
            <a:hlinkClick r:id="rId1"/>
          </p:cNvPr>
          <p:cNvPicPr/>
          <p:nvPr/>
        </p:nvPicPr>
        <p:blipFill>
          <a:blip r:embed="rId2"/>
          <a:stretch/>
        </p:blipFill>
        <p:spPr>
          <a:xfrm>
            <a:off x="457200" y="1371600"/>
            <a:ext cx="83818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a:t>
            </a:r>
            <a:r>
              <a:rPr b="0" lang="en-US" sz="4000" spc="-1" strike="noStrike">
                <a:solidFill>
                  <a:srgbClr val="000000"/>
                </a:solidFill>
                <a:latin typeface="Arial"/>
              </a:rPr>
              <a:t> </a:t>
            </a:r>
            <a:r>
              <a:rPr b="0" i="1" lang="en-US" sz="2800" spc="-1" strike="noStrike">
                <a:solidFill>
                  <a:srgbClr val="000000"/>
                </a:solidFill>
                <a:latin typeface="Arial"/>
              </a:rPr>
              <a:t>Apples, Peaches, Pears, and Grapes</a:t>
            </a:r>
            <a:r>
              <a:rPr b="0" lang="en-US" sz="2800" spc="-1" strike="noStrike">
                <a:solidFill>
                  <a:srgbClr val="000000"/>
                </a:solidFill>
                <a:latin typeface="Arial"/>
              </a:rPr>
              <a:t> c. 1879-80 (12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3520" y="1371600"/>
            <a:ext cx="662940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Cézanne, one of the creators of modern art, was called the ``solidifier of </a:t>
            </a:r>
            <a:r>
              <a:rPr b="0" lang="en-US" sz="2400" spc="-1" strike="noStrike" u="sng">
                <a:solidFill>
                  <a:srgbClr val="009999"/>
                </a:solidFill>
                <a:uFillTx/>
                <a:latin typeface="Arial"/>
                <a:hlinkClick r:id="rId1"/>
              </a:rPr>
              <a:t>Impressionism</a:t>
            </a:r>
            <a:r>
              <a:rPr b="0" lang="en-US" sz="2400" spc="-1" strike="noStrike">
                <a:solidFill>
                  <a:srgbClr val="000000"/>
                </a:solidFill>
                <a:latin typeface="Arial"/>
              </a:rPr>
              <a:t>''. And indeed he does not draw his picture before painting it: instead, he creates space and depth of perspective by means of planes of color, which are freely associated and at the same time contrasted and compared. The facets which are thus produced create not just one but many perspectives, and in this way volume comes once again to dominate the composition, no longer a product of the line but rather of the color itself. His still-lifes, in their simplicity and delicate tonal harmony, are a typical work and thus ideal for an understanding of Cézanne's 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his pictures are still lifes. These were done in the studio, with simple props; a cloth, some apples, a vase or bowl and, later in his career, plaster sculptures. Cézanne's still lifes are both traditional and modern. The fruits and objects are readily identifiable, but they have no aroma, no sensual or tactile appeal and no other function other than as passive decorative objects coexisting in the same flat space. They bear no relation to the colorful vegetables of Provence -- gorgeous red tomatoes, purple aubergines, and bright green courgettes. In his pursuit of the essence of art, Cézanne had to suppress earthly delig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Commode </a:t>
            </a:r>
            <a:br>
              <a:rPr sz="2800"/>
            </a:br>
            <a:r>
              <a:rPr b="0" i="1" lang="en-US" sz="2800" spc="-1" strike="noStrike">
                <a:solidFill>
                  <a:srgbClr val="000000"/>
                </a:solidFill>
                <a:latin typeface="Arial"/>
              </a:rPr>
              <a:t>1883-87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1371600"/>
            <a:ext cx="642924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a:t>
            </a:r>
            <a:r>
              <a:rPr b="0" i="1" lang="en-US" sz="4000" spc="-1" strike="noStrike">
                <a:solidFill>
                  <a:srgbClr val="000000"/>
                </a:solidFill>
                <a:latin typeface="Arial"/>
              </a:rPr>
              <a:t> </a:t>
            </a:r>
            <a:r>
              <a:rPr b="0" i="1" lang="en-US" sz="2800" spc="-1" strike="noStrike">
                <a:solidFill>
                  <a:srgbClr val="000000"/>
                </a:solidFill>
                <a:latin typeface="Arial"/>
              </a:rPr>
              <a:t>Life with Plate of Cherries </a:t>
            </a:r>
            <a:br>
              <a:rPr sz="2800"/>
            </a:br>
            <a:r>
              <a:rPr b="0" i="1" lang="en-US" sz="2800" spc="-1" strike="noStrike">
                <a:solidFill>
                  <a:srgbClr val="000000"/>
                </a:solidFill>
                <a:latin typeface="Arial"/>
              </a:rPr>
              <a:t>1885-87 (16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57200" y="1447920"/>
            <a:ext cx="6296040" cy="49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21:00:41Z</dcterms:created>
  <dc:creator>Littleton Prep</dc:creator>
  <dc:description/>
  <dc:language>en-US</dc:language>
  <cp:lastModifiedBy>Littleton Prep</cp:lastModifiedBy>
  <dcterms:modified xsi:type="dcterms:W3CDTF">2008-04-23T21:26:33Z</dcterms:modified>
  <cp:revision>4</cp:revision>
  <dc:subject/>
  <dc:title>What Is A Still Life?</dc:title>
</cp:coreProperties>
</file>