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1C1-4064-4A98-BF47-D40C4FB7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EB9-076A-4689-931A-F0DC10D9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17B-3F28-4FC3-A81B-397E85AB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E99-5825-4758-BE93-B5E1D728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4B6-E89D-4A81-B847-D297AD99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167-5C19-45A9-833D-89A2EB47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29B-F373-4013-862C-48B606E1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1EC-57C9-4FF4-8189-A23EF4E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740-0332-4A24-BA66-9848A248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4E6-781B-4503-B9FB-AD4C35F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16B-4835-4C52-9C5D-772D0CD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51A-BFF7-4C12-9B6F-EC59B95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3EA9-1FE5-4313-9006-CB952B2EF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wm/paint/auth/mondrian/ry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iblio.org/wm/paint/auth/mondrian/broadway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www.herold.adsl.dk/Mains/Galleri/Graphics/Baggrund/Soft%20blue%20sky%2001B-1024x768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herold.adsl.dk/Mains/Galleri/Graphics/Baggrund/Soft%20blue%20sky%2001B-1024x768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pipeline.com/~pix01/pix/2003-03-15-15-14-13a-pix.jpg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m/imgres?imgurl=www.hort.purdue.edu/ext/senior/fruits/images/large/orange3.jpg&amp;imgrefurl=http://www.hort.purdue.edu/ext/senior/fruits/orange1.htm&amp;h=480&amp;w=640&amp;sz=53&amp;tbnid=aMhGF8c-jF8J:&amp;tbnh=101&amp;tbnw=134&amp;prev=/images%3Fq%3DOrange%2B(Fruit)%26hl%3Den%26lr%3D%26ie%3DUTF-8%26oe%3DISO-8859-1%26sa%3DG" TargetMode="External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metrical Bal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m Lambie 20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114800" cy="461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t Mond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Yellow,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86000"/>
            <a:ext cx="2819520" cy="3124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rian P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way Boogie Wo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2-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lick to view full-sized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2004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3276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266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color-wheel.gif - 13335 Bytes"/>
          <p:cNvPicPr/>
          <p:nvPr/>
        </p:nvPicPr>
        <p:blipFill>
          <a:blip r:embed="rId1"/>
          <a:stretch/>
        </p:blipFill>
        <p:spPr>
          <a:xfrm>
            <a:off x="3200400" y="1676520"/>
            <a:ext cx="4038480" cy="43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1790640"/>
            <a:ext cx="354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make second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 + Blue =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Red + Yellow = Or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 + Blue =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3808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43434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32767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343400"/>
            <a:ext cx="914400" cy="52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220968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57600" y="32767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3733920" y="434340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7:57:17Z</dcterms:created>
  <dc:creator>Cheryl Wilsey</dc:creator>
  <dc:description/>
  <dc:language>en-US</dc:language>
  <cp:lastModifiedBy>Matthew Cleveland</cp:lastModifiedBy>
  <dcterms:modified xsi:type="dcterms:W3CDTF">2009-01-25T19:12:51Z</dcterms:modified>
  <cp:revision>7</cp:revision>
  <dc:subject/>
  <dc:title>BALANCE</dc:title>
</cp:coreProperties>
</file>