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9A5-5EAF-4982-B1A1-47C78336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DA8-B5D0-4574-AFAA-D9D8160E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274-B9A8-4013-886F-D2FD0D50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8A3-4E46-462B-843F-DCA1036C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487-2515-4EF0-801D-B227D00E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1A3-14A5-463D-8846-836C59C9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374-5905-4604-9D19-3338189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4DF-C8BF-4B69-9DCC-7F4A2CFF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1DA-7DFA-4998-85A0-EE76CBD9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05E-6A10-4593-922A-D5AECB71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764-FB4D-4CAB-8A6D-39383300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AD0-DC09-4119-AB34-75BE607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C0C8-C323-4FEF-B741-0EBD855E4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biblio.org/wm/paint/auth/mondrian/ry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biblio.org/wm/paint/auth/mondrian/broadway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www.herold.adsl.dk/Mains/Galleri/Graphics/Baggrund/Soft%20blue%20sky%2001B-1024x768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herold.adsl.dk/Mains/Galleri/Graphics/Baggrund/Soft%20blue%20sky%2001B-1024x768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www.pipeline.com/~pix01/pix/2003-03-15-15-14-13a-pix.jpg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images.google.com/imgres?imgurl=www.hort.purdue.edu/ext/senior/fruits/images/large/orange3.jpg&amp;imgrefurl=http://www.hort.purdue.edu/ext/senior/fruits/orange1.htm&amp;h=480&amp;w=640&amp;sz=53&amp;tbnid=aMhGF8c-jF8J:&amp;tbnh=101&amp;tbnw=134&amp;prev=/images%3Fq%3DOrange%2B(Fruit)%26hl%3Den%26lr%3D%26ie%3DUTF-8%26oe%3DISO-8859-1%26sa%3DG" TargetMode="External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metrical Bal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m Lambie 20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4114800" cy="461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t Mond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Yellow,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86000"/>
            <a:ext cx="2819520" cy="3124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rian P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way Boogie Wo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2-19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lick to view full-sized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20040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3276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266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color-wheel.gif - 13335 Bytes"/>
          <p:cNvPicPr/>
          <p:nvPr/>
        </p:nvPicPr>
        <p:blipFill>
          <a:blip r:embed="rId1"/>
          <a:stretch/>
        </p:blipFill>
        <p:spPr>
          <a:xfrm>
            <a:off x="3200400" y="1676520"/>
            <a:ext cx="4038480" cy="43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Col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1790640"/>
            <a:ext cx="354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make secondary col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Red + Blue =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Red + Yellow = Oran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Yellow + Blue =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83808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4343400"/>
            <a:ext cx="838080" cy="54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32767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343400"/>
            <a:ext cx="914400" cy="52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2680" y="2209680"/>
            <a:ext cx="838440" cy="5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57600" y="32767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3733920" y="4343400"/>
            <a:ext cx="914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7:57:17Z</dcterms:created>
  <dc:creator>Cheryl Wilsey</dc:creator>
  <dc:description/>
  <dc:language>en-US</dc:language>
  <cp:lastModifiedBy>Matthew Cleveland</cp:lastModifiedBy>
  <dcterms:modified xsi:type="dcterms:W3CDTF">2009-01-25T19:12:51Z</dcterms:modified>
  <cp:revision>7</cp:revision>
  <dc:subject/>
  <dc:title>BALANCE</dc:title>
</cp:coreProperties>
</file>