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146-AB72-4D46-86FA-5F6F6C7A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A71-AE3D-44FB-87AE-2EA1C2F8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F94-F4CD-4E9D-B56C-A103FA25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FFBE-565C-4740-845F-33CF4A4B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1D5-A311-4F75-841B-E033FFA9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8E1-E761-4D9D-9643-60632772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33D-6FDC-4495-A076-2953682A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B8B3-F751-4E1D-848A-897909C6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7D45-3A6B-4FE2-BDC5-6D3CAD7D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7E92-722E-4C36-B2BF-43B330F1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461B-4BC5-45F8-ABB2-7A91D126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4FE-954D-4111-B361-465D108E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DDC1-326F-494B-AAE3-73DE8573D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biblio.org/wm/paint/auth/mondrian/ryb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biblio.org/wm/paint/auth/mondrian/broadway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hyperlink" Target="http://www.herold.adsl.dk/Mains/Galleri/Graphics/Baggrund/Soft%20blue%20sky%2001B-1024x768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herold.adsl.dk/Mains/Galleri/Graphics/Baggrund/Soft%20blue%20sky%2001B-1024x768.jp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m/imgres?imgurl=www.mhcnca.org/vip/images/yellow%2520flowers.jpg&amp;imgrefurl=http://www.mhcnca.org/vip/&amp;h=143&amp;w=145&amp;sz=12&amp;tbnid=2w8CJFqFPu0J:&amp;tbnh=87&amp;tbnw=88&amp;prev=/images%3Fq%3DYellow%2BFlowers%26hl%3Den%26lr%3D%26ie%3DUTF-8%26oe%3DISO-8859-1%26sa%3D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com/imgres?imgurl=www.mhcnca.org/vip/images/yellow%2520flowers.jpg&amp;imgrefurl=http://www.mhcnca.org/vip/&amp;h=143&amp;w=145&amp;sz=12&amp;tbnid=2w8CJFqFPu0J:&amp;tbnh=87&amp;tbnw=88&amp;prev=/images%3Fq%3DYellow%2BFlowers%26hl%3Den%26lr%3D%26ie%3DUTF-8%26oe%3DISO-8859-1%26sa%3DG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www.pipeline.com/~pix01/pix/2003-03-15-15-14-13a-pix.jpg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images.google.com/imgres?imgurl=www.hort.purdue.edu/ext/senior/fruits/images/large/orange3.jpg&amp;imgrefurl=http://www.hort.purdue.edu/ext/senior/fruits/orange1.htm&amp;h=480&amp;w=640&amp;sz=53&amp;tbnid=aMhGF8c-jF8J:&amp;tbnh=101&amp;tbnw=134&amp;prev=/images%3Fq%3DOrange%2B(Fruit)%26hl%3Den%26lr%3D%26ie%3DUTF-8%26oe%3DISO-8859-1%26sa%3DG" TargetMode="External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mmetrical Balan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im Lambie 20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4114800" cy="4619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mmetrica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t Mond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, Yellow,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2286000"/>
            <a:ext cx="2819520" cy="3124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mmetrica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rian P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way Boogie Wo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2-19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Click to view full-sized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3200400"/>
            <a:ext cx="2514600" cy="28195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3276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2666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Col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color-wheel.gif - 13335 Bytes"/>
          <p:cNvPicPr/>
          <p:nvPr/>
        </p:nvPicPr>
        <p:blipFill>
          <a:blip r:embed="rId1"/>
          <a:stretch/>
        </p:blipFill>
        <p:spPr>
          <a:xfrm>
            <a:off x="3200400" y="1676520"/>
            <a:ext cx="4038480" cy="437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Col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Vio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33920" y="1790640"/>
            <a:ext cx="3543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make secondary colo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534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Red + Blue = Vio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Red + Yellow = Oran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Yellow + Blue =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838080" cy="552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71600" y="2209680"/>
            <a:ext cx="838080" cy="533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2209680"/>
            <a:ext cx="83808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90920" y="4343400"/>
            <a:ext cx="838080" cy="547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438280" y="3276720"/>
            <a:ext cx="914400" cy="533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371600" y="4343400"/>
            <a:ext cx="914400" cy="527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352680" y="2209680"/>
            <a:ext cx="838440" cy="533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657600" y="3276720"/>
            <a:ext cx="990720" cy="533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5"/>
          <a:stretch/>
        </p:blipFill>
        <p:spPr>
          <a:xfrm>
            <a:off x="3733920" y="4343400"/>
            <a:ext cx="914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7:57:17Z</dcterms:created>
  <dc:creator>Cheryl Wilsey</dc:creator>
  <dc:description/>
  <dc:language>en-US</dc:language>
  <cp:lastModifiedBy>Matthew Cleveland</cp:lastModifiedBy>
  <dcterms:modified xsi:type="dcterms:W3CDTF">2009-01-25T19:12:51Z</dcterms:modified>
  <cp:revision>7</cp:revision>
  <dc:subject/>
  <dc:title>BALANCE</dc:title>
</cp:coreProperties>
</file>