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7CF2-861F-4673-BE41-3CF0E52C4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8068-D787-49FC-8D91-0F8B2379E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1091-8A52-42B9-946D-EBF544838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2F3F-698B-4A70-A765-446135FBE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E90C-0937-4184-A4EB-99031B49C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07F8-223C-4ED0-8B76-FF75BE691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0600-59F3-44E5-9BF6-2A5CBB720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D92F-0B38-4E2D-AE20-E167ADCC9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329F-05A9-4681-86E4-5E5FBD530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8393-F037-4A85-BE34-B204746F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25BC-8960-448F-B290-D91362EC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64DE-966B-4624-B757-A4F961AA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7976A-8B74-4034-A6D4-8C0E094BD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usc.edu/schools/annenberg/asc/projects/comm544/library/images/636bg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Horse Fair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osa Bonheur 185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95280" y="3505320"/>
            <a:ext cx="632484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47336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7</a:t>
            </a:r>
            <a:br>
              <a:rPr sz="4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teachartathome.com/horse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47340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osa Bonheur 1822-1899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n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icture shows the horse market held in Paris on the tree-lined boulevard near the asylum, visible in the left background. For a year and a half, Bonheur went there twice a week to make sketches, dressed as a man to avoid attention. This work was shown in the Salon of 1853 and in 1854 in Bonheur's native Bordeau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Horse Fair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osa Bonheur 1853-1855 oil on canv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076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horse.gif - 20767 Bytes"/>
          <p:cNvPicPr/>
          <p:nvPr/>
        </p:nvPicPr>
        <p:blipFill>
          <a:blip r:embed="rId1"/>
          <a:stretch/>
        </p:blipFill>
        <p:spPr>
          <a:xfrm>
            <a:off x="144792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56386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28800" y="2133720"/>
            <a:ext cx="47242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472428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09680" y="2057400"/>
            <a:ext cx="47246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47246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8T15:32:20Z</dcterms:created>
  <dc:creator>Littleton Prep</dc:creator>
  <dc:description/>
  <dc:language>en-US</dc:language>
  <cp:lastModifiedBy>Littleton Prep</cp:lastModifiedBy>
  <dcterms:modified xsi:type="dcterms:W3CDTF">2008-09-04T19:18:23Z</dcterms:modified>
  <cp:revision>4</cp:revision>
  <dc:subject/>
  <dc:title>The Horse Fair Rosa Bonheur 1853</dc:title>
</cp:coreProperties>
</file>