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6EE-FFB5-47EA-9A20-F5AF7DB5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748-A0C9-4815-8A64-F4A26949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0A4-6B98-4209-B0CC-8709B2F6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E73-F525-49D5-A835-6B428D26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65E-DAC1-4C9E-B937-F148310A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69E-C87C-4C97-A73E-06289178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C8F-8A34-44E3-BE52-0FDBB878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95D-6B6F-4E54-AC6E-C94FB63B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48D-AF7E-4A8A-BDE9-0BF67BD0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C6C-6BE5-45D6-932A-4AA1564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7CD-0BEF-4B18-9EB2-EABB3AF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7ED-A4D1-47AF-BC68-09F9F41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BF14-EA63-426B-9D19-658098DF4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c.edu/schools/annenberg/asc/projects/comm544/library/images/636b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rse Fa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a Bonheur 18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505320"/>
            <a:ext cx="632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4733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7</a:t>
            </a:r>
            <a:br>
              <a:rPr sz="4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eachartathome.com/hors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47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sa Bonheur 1822-189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icture shows the horse market held in Paris on the tree-lined boulevard near the asylum, visible in the left background. For a year and a half, Bonheur went there twice a week to make sketches, dressed as a man to avoid attention. This work was shown in the Salon of 1853 and in 1854 in Bonheur's native Borde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rse Fa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sa Bonheur 1853-1855 oil on can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horse.gif - 20767 Bytes"/>
          <p:cNvPicPr/>
          <p:nvPr/>
        </p:nvPicPr>
        <p:blipFill>
          <a:blip r:embed="rId1"/>
          <a:stretch/>
        </p:blipFill>
        <p:spPr>
          <a:xfrm>
            <a:off x="14479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638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724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4724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24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724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5:32:20Z</dcterms:created>
  <dc:creator>Littleton Prep</dc:creator>
  <dc:description/>
  <dc:language>en-US</dc:language>
  <cp:lastModifiedBy>Littleton Prep</cp:lastModifiedBy>
  <dcterms:modified xsi:type="dcterms:W3CDTF">2008-09-04T19:18:23Z</dcterms:modified>
  <cp:revision>4</cp:revision>
  <dc:subject/>
  <dc:title>The Horse Fair Rosa Bonheur 1853</dc:title>
</cp:coreProperties>
</file>