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4DC-8093-47D6-A437-C5A3717F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8BE-E4DA-417B-9CC1-F86FA08E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E91-E70C-41AD-ABA2-B1968548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607-35E5-4D48-89DE-94F5A894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FD0-4E85-4466-892F-050F1EC5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CCF-D04B-4EEE-B05A-373528D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5A0-C95C-4584-9A95-696FD3E9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8A6-EF66-4AE8-B462-A661C0AF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7129-4ABB-4848-A41D-590F4506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C31-1654-4451-A6CA-FDC96607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1EB-B188-42C6-B076-D9287B2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F24-B5A4-4F4B-8190-6E0F230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5C6-2872-4D79-87A1-98409A06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cent 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cent Van Gogh: 1853-189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es was painted in 18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years ago w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this painting looks “soft” or “har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things look a bit fog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kind of painting is called “Impression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draw this picture-remember to draw lightl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at we are going to color it with water co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n’t use b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41:23Z</dcterms:created>
  <dc:creator>Littleton Prep</dc:creator>
  <dc:description/>
  <dc:language>en-US</dc:language>
  <cp:lastModifiedBy>Littleton Prep</cp:lastModifiedBy>
  <dcterms:modified xsi:type="dcterms:W3CDTF">2008-03-07T22:41:42Z</dcterms:modified>
  <cp:revision>1</cp:revision>
  <dc:subject/>
  <dc:title>Vincent Van Gogh</dc:title>
</cp:coreProperties>
</file>