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4692-B823-49FA-951D-A8FB3E8E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550-16BF-4951-935C-F2C2FDFF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A085-3BFF-45BC-90C3-03CEA820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4E28-5D57-4D9B-9122-621885A6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8D41-4889-4BA3-B63D-65D4091B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B963-138E-4A41-98EF-68D92BDB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6674-F00D-40F9-A598-A6736FF8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700D-CEE0-4896-A7E6-E6C08F43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7D62-3283-497D-9835-CF8B77BD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77C-F885-4BCB-832C-1E017579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5F28-5F42-4238-B412-92A92572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BDEA-237B-4C1C-90DF-4716D9AE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AD39-9F95-4B85-937B-3E16EA934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ncent Van Go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ncent Van Gogh: 1853-189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ises was painted in 188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years ago was t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think that this painting looks “soft” or “hard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ome things look a bit fog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kind of painting is called “Impressionis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going to draw this picture-remember to draw lightly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at we are going to color it with water colo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don’t use bla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FUN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22:41:23Z</dcterms:created>
  <dc:creator>Littleton Prep</dc:creator>
  <dc:description/>
  <dc:language>en-US</dc:language>
  <cp:lastModifiedBy>Littleton Prep</cp:lastModifiedBy>
  <dcterms:modified xsi:type="dcterms:W3CDTF">2008-03-07T22:41:42Z</dcterms:modified>
  <cp:revision>1</cp:revision>
  <dc:subject/>
  <dc:title>Vincent Van Gogh</dc:title>
</cp:coreProperties>
</file>