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37F-4C63-41F3-BC92-E92D36DB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074-C2D6-41E0-B8BA-09083BC9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5AA0-1553-4EE2-933B-8FDF7380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D5C0-0E06-45C6-A724-5B2E088D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00E-88A2-4238-8454-5AA78B9B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273D-5AA1-42B6-A882-F5A94DE3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29F6-3B3E-481F-AA5C-97A8C2BC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66D-9840-44FB-AB8D-7B0BFD93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EA61-11F8-4D39-8E7C-D8BC461C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646B-6510-449E-8586-E6C4F660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E16A-6839-4E58-B2A0-DE07B480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5414-B89B-420F-9B57-5A90461F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5441-80D4-4ADB-9AEA-192308816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hyperlink" Target="http://www.herold.adsl.dk/Mains/Galleri/Graphics/Baggrund/Soft%20blue%20sky%2001B-1024x768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herold.adsl.dk/Mains/Galleri/Graphics/Baggrund/Soft%20blue%20sky%2001B-1024x768.jpg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com/imgres?imgurl=www.mhcnca.org/vip/images/yellow%2520flowers.jpg&amp;imgrefurl=http://www.mhcnca.org/vip/&amp;h=143&amp;w=145&amp;sz=12&amp;tbnid=2w8CJFqFPu0J:&amp;tbnh=87&amp;tbnw=88&amp;prev=/images%3Fq%3DYellow%2BFlowers%26hl%3Den%26lr%3D%26ie%3DUTF-8%26oe%3DISO-8859-1%26sa%3DG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com/imgres?imgurl=www.mhcnca.org/vip/images/yellow%2520flowers.jpg&amp;imgrefurl=http://www.mhcnca.org/vip/&amp;h=143&amp;w=145&amp;sz=12&amp;tbnid=2w8CJFqFPu0J:&amp;tbnh=87&amp;tbnw=88&amp;prev=/images%3Fq%3DYellow%2BFlowers%26hl%3Den%26lr%3D%26ie%3DUTF-8%26oe%3DISO-8859-1%26sa%3DG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www.pipeline.com/~pix01/pix/2003-03-15-15-14-13a-pix.jpg" TargetMode="External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ds.yahoo.com/_ylt=A0oGkkU2k6pFkH4A7g1XNyoA;_ylu=X3oDMTBxanFwaG52BGNvbG8DdwRzZWMDc2MEdnRpZANGODYzXzc0/SIG=1hd3kc55t/EXP=1168893110/**http%3A//images.search.yahoo.com/search/images/view%3Fback=http%253A%252F%252Fsearch.yahoo.com%252Fsearch%253Fp%253Dsky%252Bpictures%2526ei%253DUTF-8%26h=913%26w=885%26imgcurl=hunley.home.mindspring.com%252Fgraphics%252Fsky.jpg%26imgurl=hunley.home.mindspring.com%252Fgraphics%252Fsky.jpg%26size=84.8kB%26name=sky.jpg%26rcurl=http%253A%252F%252Fhunley.home.mindspring.com%252Fgraphics%253FD%253DD%26rurl=http%253A%252F%252Fhunley.home.mindspring.com%252Fgraphics%253FD%253DD%26p=sky%26type=jpeg%26no=1%26tt=3%252C266%252C326%26fr=ush2-mai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ds.yahoo.com/_ylt=A0oGkiR3k6pFQUQAcghXNyoA;_ylu=X3oDMTBxanFwaG52BGNvbG8DdwRzZWMDc2MEdnRpZANGODYzXzc0/SIG=1k529c28j/EXP=1168893175/**http%3A//images.search.yahoo.com/search/images/view%3Fback=http%253A%252F%252Fsearch.yahoo.com%252Fsearch%253Fp%253Dgrass%252Bpictures%2526ei%253DUTF-8%26h=450%26w=600%26imgcurl=www.cepolina.com%252Ffreephoto%252Ff%252Fnature.country%252Fgrass.green2.jpg%26imgurl=www.cepolina.com%252Ffreephoto%252Ff%252Fnature.country%252Fgrass.green2.jpg%26size=142.5kB%26name=grass.green2.jpg%26rcurl=http%253A%252F%252Fwww.cepolina.com%252Ffreephoto%252Fvg%252Fgrass.green2-country.htm%26rurl=http%253A%252F%252Fwww.cepolina.com%252Ffreephoto%252Fvg%252Fgrass.green2-country.htm%26p=grass%26type=jpeg%26no=2%26tt=984%252C260%26fr=ush2-mai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ds.yahoo.com/_ylt=A0oGkmmtk6pF7QoBFw5XNyoA;_ylu=X3oDMTBxanFwaG52BGNvbG8DdwRzZWMDc2MEdnRpZANGODYzXzc0/SIG=1keh51cfl/EXP=1168893229/**http%3A//images.search.yahoo.com/search/images/view%3Fback=http%253A%252F%252Fsearch.yahoo.com%252Fsearch%253Fp%253Dorange%252Bpictures%252Bpictures%2526ei%253DUTF-8%26h=315%26w=420%26imgcurl=www.atpm.com%252F11.02%252Fnature%252Fimages%252Forange-petals-1-420.jpg%26imgurl=www.atpm.com%252F11.02%252Fnature%252Fimages%252Forange-petals-1-420.jpg%26size=15.2kB%26name=orange-petals-1-420.jpg%26rcurl=http%253A%252F%252Fwww.atpm.com%252F11.02%252Fnature%252Forange-petals-1.shtml%26rurl=http%253A%252F%252Fwww.atpm.com%252F11.02%252Fnature%252Forange-petals-1.shtml%26p=orange%2Bpictures%26type=jpeg%26no=3%26tt=72%252C480%26fr=ush2-mai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ds.yahoo.com/_ylt=A0Je5xXxk6pF_LcAnDyJzbkF;_ylu=X3oDMTBkN2lwNjljBHBvcwMxOARzZWMDc3I-/SIG=1ksi4tjq6/EXP=1168893297/**http%3A//images.search.yahoo.com/search/images/view%3Fback=http%253A%252F%252Fimages.search.yahoo.com%252Fsearch%252Fimages%253F_adv_prop%253Dimages%2526imgsz%253Dall%2526imgc%253D%2526vf%253Dall%2526va%253Dpurple%252Bviolet%252Bpictures%2526fr%253Dush2-mail%2526ei%253DUTF-8%26w=540%26h=438%26imgurl=www.pioneergardens.com%252Fimages%252FHeuchera%252520%2527Frosted%252520Violet%2527%252520No.%2525201_1.jpg%26rurl=http%253A%252F%252Fwww.pioneergardens.com%252Fprimrose_path_2.htm%26size=51.7kB%26name=Heuchera%2B%2527Frosted%2BViolet%2527%2BNo.%2B1_1.jpg%26p=purple%2Bviolet%2Bpictures%26type=jpeg%26no=18%26tt=194%26oid=37e72d365e3b4722%26ei=UTF-8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Primary Colo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make secondary colo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534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Red + Blue = Vio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Red + Yellow = Oran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Yellow + Blue =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83808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371600" y="2209680"/>
            <a:ext cx="838080" cy="533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62320" y="2209680"/>
            <a:ext cx="838080" cy="533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90920" y="4343400"/>
            <a:ext cx="838080" cy="547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438280" y="3276720"/>
            <a:ext cx="914400" cy="533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371600" y="4343400"/>
            <a:ext cx="914400" cy="527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352680" y="2209680"/>
            <a:ext cx="838440" cy="533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3"/>
          <a:stretch/>
        </p:blipFill>
        <p:spPr>
          <a:xfrm>
            <a:off x="3657600" y="3276720"/>
            <a:ext cx="990720" cy="533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4"/>
          <a:stretch/>
        </p:blipFill>
        <p:spPr>
          <a:xfrm>
            <a:off x="3733920" y="4343400"/>
            <a:ext cx="9144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Col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Image Preview"/>
          <p:cNvPicPr/>
          <p:nvPr/>
        </p:nvPicPr>
        <p:blipFill>
          <a:blip r:embed="rId1"/>
          <a:stretch/>
        </p:blipFill>
        <p:spPr>
          <a:xfrm>
            <a:off x="2514600" y="2286000"/>
            <a:ext cx="4038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Col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Image Preview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Col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hunley.home.mindspring.com/graphics/sk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209680"/>
            <a:ext cx="3657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econdary Colo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Col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www.cepolina.com/freephoto/f/nature.country/grass.green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743200"/>
            <a:ext cx="4343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Col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www.atpm.com/11.02/nature/images/orange-petals-1-42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2895480"/>
            <a:ext cx="3429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Col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le/Vio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2514600"/>
            <a:ext cx="4190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ary Colors make Secondary Color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20:30:10Z</dcterms:created>
  <dc:creator>Cheryl Wilsey</dc:creator>
  <dc:description/>
  <dc:language>en-US</dc:language>
  <cp:lastModifiedBy>Littleton Prep</cp:lastModifiedBy>
  <dcterms:modified xsi:type="dcterms:W3CDTF">2008-04-29T19:08:32Z</dcterms:modified>
  <cp:revision>4</cp:revision>
  <dc:subject/>
  <dc:title>What Are Primary Colors?</dc:title>
</cp:coreProperties>
</file>