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96FFCD-8F98-4C92-B9A5-98D5C6F379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E6B35E-057D-40CF-A271-72C24A0B85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A3B610-A439-4008-A8F3-C478BAC579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5AF6FA-624C-4742-A2C7-D1FC7C2671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53955E-C7DB-41A5-80D1-6F0EBFC9B7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382EE8-2AD0-45FA-B5DB-81CF70D39B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E97A92-1A3E-46A0-B838-03A40002D8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06D4C4-B6F4-42E5-86BA-DB5EE8F03F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91CE2D-7087-43BE-A9B8-E61500E997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FB38AD-2D70-46E4-8C57-0F1C4CED7B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6CCCEE-DD8B-4FF5-8E7E-57F3C2CB5E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65B9BB-F67F-4CA1-B44E-DF095FECB2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090A40-DC8A-4397-9171-D37EB238592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Are</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tem Pol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ertical Horizontal</a:t>
            </a: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 10 pieces high, then 4 pieces wide on each side-then another 6 high</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One piece will connect the 4 wide pieces on the side and will be part of the additional 6 high-</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 Ideas-the side pieces could be a bird’s wings and the middle connecting piece could be the eyes and bea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 descr=""/>
          <p:cNvPicPr/>
          <p:nvPr/>
        </p:nvPicPr>
        <p:blipFill>
          <a:blip r:embed="rId1"/>
          <a:stretch/>
        </p:blipFill>
        <p:spPr>
          <a:xfrm>
            <a:off x="2666880" y="414360"/>
            <a:ext cx="3810240" cy="60292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 name="" descr=""/>
          <p:cNvPicPr/>
          <p:nvPr/>
        </p:nvPicPr>
        <p:blipFill>
          <a:blip r:embed="rId1"/>
          <a:stretch/>
        </p:blipFill>
        <p:spPr>
          <a:xfrm>
            <a:off x="2666880" y="533520"/>
            <a:ext cx="3810240" cy="57909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 descr=""/>
          <p:cNvPicPr/>
          <p:nvPr/>
        </p:nvPicPr>
        <p:blipFill>
          <a:blip r:embed="rId1"/>
          <a:stretch/>
        </p:blipFill>
        <p:spPr>
          <a:xfrm>
            <a:off x="2666880" y="571680"/>
            <a:ext cx="3810240" cy="5715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2666880" y="542880"/>
            <a:ext cx="3810240" cy="57722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terials</a:t>
            </a: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truction Paper</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int</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int Brushe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int Shirt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ater Cup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eather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ad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lu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le punch</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rn</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otem Poles</a:t>
            </a:r>
            <a:endParaRPr b="0" lang="en-US" sz="4400" spc="-1" strike="noStrike">
              <a:solidFill>
                <a:srgbClr val="000000"/>
              </a:solidFill>
              <a:latin typeface="Arial"/>
            </a:endParaRPr>
          </a:p>
        </p:txBody>
      </p:sp>
      <p:pic>
        <p:nvPicPr>
          <p:cNvPr id="44" name="" descr=""/>
          <p:cNvPicPr/>
          <p:nvPr/>
        </p:nvPicPr>
        <p:blipFill>
          <a:blip r:embed="rId1"/>
          <a:stretch/>
        </p:blipFill>
        <p:spPr>
          <a:xfrm>
            <a:off x="4038480" y="1676520"/>
            <a:ext cx="1028880" cy="4524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Totem Poles use three basic colors"/>
          <p:cNvPicPr/>
          <p:nvPr/>
        </p:nvPicPr>
        <p:blipFill>
          <a:blip r:embed="rId1"/>
          <a:stretch/>
        </p:blipFill>
        <p:spPr>
          <a:xfrm>
            <a:off x="2514600" y="1523880"/>
            <a:ext cx="3809880" cy="4572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Do They Mean?</a:t>
            </a: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me of totem poles comes from "totem," the symbol of a northwest North American native clan. When westerners first saw totem poles, they thought they were religious symbols and objects of worship. Mistakenly, early missionaries told their converts to burn their totem poles. Today, we understand the totem poles are more like billboards, signposts or tombstones; telling stories and honoring heritag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orthwest Native Peoples</a:t>
            </a: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original carvers of totem poles lived in the are now known as Alaska's Inside Passage, members of the Tlingit, Haida and other clan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ans: What Does This Mean?</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ymbol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ymbols on totem poles are primarily the symbols of the clans they belong to. At the highest level, everyone is either of the eagle or raven clan, with subclans such as beaver, fox, bear, and frog. The raven has a straight beak, while the eagle has a curved on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Do You Make Them?</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ow Totem Poles Are Mad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tem poles are usually made of cedar or spruce. Traditional carving tools are adzes (sharp blades tied to wooden handles), two larger ones used to remove big pieces of wood and an elbow adze (so-named because its shape looks like a human elbow) for final shaping, which compresses the wood fibers and helps make the wood water-resistan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ur Project!</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We will identify 12 different Colorado animals to be used/replicated in our pol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We will be placed into 24 groups by the teacher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 The teachers will look at all requests for animals and choose animals that are appropriate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ch group will draw out of a “hat” an animal-this will be their part of the pole projec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ur Project!</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 There will be two of every animal-12 animals and 24 group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Students will work collaboratively in their small groups to produce and animal</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 Each group will be given a piece of construction paper-most will be “vertical” of “up and down”, some will be “horizontal” or “fat hamburger way” 18” X 12” brown, black and green</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11T16:09:25Z</dcterms:created>
  <dc:creator>Littleton Prep</dc:creator>
  <dc:description/>
  <dc:language>en-US</dc:language>
  <cp:lastModifiedBy>Littleton Prep</cp:lastModifiedBy>
  <dcterms:modified xsi:type="dcterms:W3CDTF">2008-02-14T19:08:16Z</dcterms:modified>
  <cp:revision>4</cp:revision>
  <dc:subject/>
  <dc:title>What Are</dc:title>
</cp:coreProperties>
</file>