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6D1-D0B7-42F0-ABCD-3A815CF6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DF0-6598-42A0-BF0A-4F1C80B7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7DC-3D23-4DFD-8406-5FE59672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601-56D4-464C-B902-32423287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3E6-554E-4BB6-8545-A1B97CFD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81E-A468-44B3-A3EE-637DD2AC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C61-397F-405B-9DF8-C034A272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009-26B3-46C4-8EDA-257C69D2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E51-A162-452B-8A00-D8D898F3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AF5-AE41-420A-9DD9-C686915D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1AE-A746-41DB-B860-D25F3E3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16A-41DF-498F-B312-AAB86F5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1AED-3B17-46AC-8306-B8905B57D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Caterpillars &amp; Butterfli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you will need your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you will need green construction paper for your gr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your green construction paper into grass and glue onto the bottom of your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use your pencils to draw a Colorado Landscape: be sure that you make flowers, trees, and caterpillars-do not make the butterflies y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ny parts of project da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Color your picture with crayons and/or oil pas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on colored buttons in the center of your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goggle eyes onto your caterpi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ick the color of your butterf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6” X 4” piece of construction paper and fold it in ha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pencil and draw this on your paper- keep your paper fol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it out-keep the paper fol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you mad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 will demonstrate the drawing on the whit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ylic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ONE side of your butter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old the butterf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-do the sides look the sam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Balance is tha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ay 3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ny parts that were not completed in project day 3 &amp; glue on your butterf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wo pipe cleaners Wrap them around one another for most of the way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separate the two-now you should have antenn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ill be stapled on by you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ly, glue on goggle eyes onto your butterf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leen Fisher: Fly Fly 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fly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fly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fly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up in the sky so hig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RPILLAR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caterpillars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hing much but chew and chew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caterpillars know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hing much but how to grow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just eat what by an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them be a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 is more than I can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much I chew and ch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Caterpillars Turn Into Butterfl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flies lay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ggs hatch and make caterpi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erpillars grow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erpillars form a cocoon which is attached to a twig or larg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coon h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comes the butterf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butterflies come from?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egs to caterpillars have?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egs do you think that butterflies have?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 Leg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The Butterfl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look the same on both s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7628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Balance Looks The Same On Both Side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0:24:17Z</dcterms:created>
  <dc:creator>Matthew Cleveland</dc:creator>
  <dc:description/>
  <dc:language>en-US</dc:language>
  <cp:lastModifiedBy>Matthew Cleveland</cp:lastModifiedBy>
  <dcterms:modified xsi:type="dcterms:W3CDTF">2008-01-27T20:43:25Z</dcterms:modified>
  <cp:revision>2</cp:revision>
  <dc:subject/>
  <dc:title>What is This?</dc:title>
</cp:coreProperties>
</file>