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EE5-8E86-42F0-92A9-D4636DD0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1FE-3B7B-4A35-9FCE-96BEF222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C03-EA59-4639-BBA0-B6E7EAC1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26D-9FCD-41C1-B4AB-F7FE4C9A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71C-EB43-4181-B888-CEFD28B0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FFC-948C-4281-8FC9-AC2962E4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A41-0915-49C0-AB01-FEE92B5C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13F7-5B03-4FC3-A75D-F349029F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C384-25B5-434A-BCD2-46B3EE21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C46-82E0-43E6-95A4-FD051DA9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4AB2-1CB8-4A72-AF59-4C00D223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E6A5-F5D4-4C29-AF3A-60A15FDE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ACD3-E2CD-4C04-9704-341B56DFF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re Going To Make Caterpillars &amp; Butterfli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you will need your white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you will need green construction paper for your gr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 your green construction paper into grass and glue onto the bottom of your white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, use your pencils to draw a Colorado Landscape: be sure that you make flowers, trees, and caterpillars-do not make the butterflies y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2 peri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any parts of project da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Color your picture with crayons and/or oil past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e on colored buttons in the center of your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e goggle eyes onto your caterpil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da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pick the color of your butterf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6” X 4” piece of construction paper and fold it in ha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pencil and draw this on your paper- keep your paper fold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it out-keep the paper fold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ve you mad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I will demonstrate the drawing on the whit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ylic 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 ONE side of your butter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old the butterf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-do the sides look the sam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Balance is that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day 3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any parts that were not completed in project day 3 &amp; glue on your butterfl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wo pipe cleaners Wrap them around one another for most of the way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separate the two-now you should have antenn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will be stapled on by your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ly, glue on goggle eyes onto your butterfl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This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leen Fisher: Fly Fly Butterf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 fly butterfl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 fly butterfl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 fly butterfl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 up in the sky so hig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RPILLARS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caterpillars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hing much but chew and chew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caterpillars know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hing much but how to grow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just eat what by and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ake them be a butterfl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at is more than I can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much I chew and ch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Caterpillars Turn Into Butterfl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erflies lay eg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ggs hatch and make caterpil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erpillars grow la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erpillars form a cocoon which is attached to a twig or larg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coon h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comes the butterf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butterflies come from?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legs to caterpillars have?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legs do you think that butterflies have?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 Leg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At The Butterfli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y look the same on both s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7628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1722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Kind of Balance Looks The Same On Both Sides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20:24:17Z</dcterms:created>
  <dc:creator>Matthew Cleveland</dc:creator>
  <dc:description/>
  <dc:language>en-US</dc:language>
  <cp:lastModifiedBy>Matthew Cleveland</cp:lastModifiedBy>
  <dcterms:modified xsi:type="dcterms:W3CDTF">2008-01-27T20:43:25Z</dcterms:modified>
  <cp:revision>2</cp:revision>
  <dc:subject/>
  <dc:title>What is This?</dc:title>
</cp:coreProperties>
</file>