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8DE-895D-45B1-B658-97810149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4B6-89D2-4D55-B6DA-9BBF8C10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5DC-4C86-421E-84F5-E71D40A2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68F-0F38-4683-B7D4-DE407A42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DA8-796C-48DD-BEB1-B36F93E5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84D-07BA-4FAC-A248-EAA87857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32C-E9B0-4BA9-B630-B605B910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2DB-5DA9-4F7B-8C83-812C40AF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E9C-77F1-4B9B-BAF3-09E7043E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722-179A-4713-A876-57C3F582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78D-EEE7-45C0-93F4-1A4D8C5B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1F0-2643-45FF-A0AA-37448EEA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28EA-1421-4808-BB6B-13C20FF50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Make Caterpillars &amp; Butterfli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you will need your whit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you will need green construction paper for your gr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your green construction paper into grass and glue onto the bottom of your white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, use your pencils to draw a Colorado Landscape: be sure that you make flowers, trees, and caterpillars-do not make the butterflies y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2 per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any parts of project day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Color your picture with crayons and/or oil pas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 on colored buttons in the center of your fl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 goggle eyes onto your caterpil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ick the color of your butterf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6” X 4” piece of construction paper and fold it in ha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your pencil and draw this on your paper- keep your paper fold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it out-keep the paper fold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ve you mad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 will demonstrate the drawing on the whit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rylic 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ONE side of your butter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old the butterf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-do the sides look the sam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Balance is that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day 3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sh any parts that were not completed in project day 3 &amp; glue on your butterfl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wo pipe cleaners Wrap them around one another for most of the way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separate the two-now you should have antenn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ill be stapled on by you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ly, glue on goggle eyes onto your butterfl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This 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leen Fisher: Fly Fly Butter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 fly butterfl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 fly butterfl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 fly butterfl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 up in the sky so hig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RPILLARS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caterpillars do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hing much but chew and chew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caterpillars know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hing much but how to grow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just eat what by an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them be a butterfl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at is more than I can d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much I chew and ch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Caterpillars Turn Into Butterfl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erflies lay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ggs hatch and make caterpil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erpillars grow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terpillars form a cocoon which is attached to a twig or larg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coon h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comes the butterf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butterflies come from?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legs to caterpillars have?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legs do you think that butterflies have?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 Leg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The Butterfl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y look the same on both sid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7628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172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Kind of Balance Looks The Same On Both Side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20:24:17Z</dcterms:created>
  <dc:creator>Matthew Cleveland</dc:creator>
  <dc:description/>
  <dc:language>en-US</dc:language>
  <cp:lastModifiedBy>Matthew Cleveland</cp:lastModifiedBy>
  <dcterms:modified xsi:type="dcterms:W3CDTF">2008-01-27T20:43:25Z</dcterms:modified>
  <cp:revision>2</cp:revision>
  <dc:subject/>
  <dc:title>What is This?</dc:title>
</cp:coreProperties>
</file>