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A3D1D-ACDE-43E9-B8AE-4969446A0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69F7B-A439-48F2-9DC8-3DCF3726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95FFA-5928-4291-A0C1-E2DBB17AA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5733-04D6-429D-A02E-9FC84D511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AEE74-079E-49BD-A908-7D6C23F2D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BE2CE-A681-4DCB-B8E6-0FA7DCD5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88EBA-57CD-411A-B76B-7043A35CD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FD437-DDD0-4566-B4D3-D61F27EAE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46E25-30D0-48F6-B6BC-8DDA958B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8296-379B-4367-913E-A2AEBBA9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318E-3C72-46B2-8E2B-D8E78451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84BE-2C9D-4D6D-9221-C0D9151A1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A7B7-9C78-4CD1-BAEC-A199EAAAC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ga.gov/fcgi-bin/timage_f?object=37004&amp;image=5947&amp;c="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image of Enthroned Madonna and Child">
            <a:hlinkClick r:id="rId1"/>
          </p:cNvPr>
          <p:cNvPicPr/>
          <p:nvPr/>
        </p:nvPicPr>
        <p:blipFill>
          <a:blip r:embed="rId2"/>
          <a:stretch/>
        </p:blipFill>
        <p:spPr>
          <a:xfrm>
            <a:off x="2666880" y="0"/>
            <a:ext cx="3962520" cy="670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on with Saint Demetrios</a:t>
            </a:r>
            <a:br>
              <a:rPr sz="2800"/>
            </a:br>
            <a:r>
              <a:rPr b="0" lang="en-US" sz="2800" spc="-1" strike="noStrike">
                <a:solidFill>
                  <a:srgbClr val="000000"/>
                </a:solidFill>
                <a:latin typeface="Arial"/>
              </a:rPr>
              <a:t>Byzantine, second half of the 10th century</a:t>
            </a:r>
            <a:br>
              <a:rPr sz="2800"/>
            </a:br>
            <a:r>
              <a:rPr b="0" lang="en-US" sz="2800" spc="-1" strike="noStrike">
                <a:solidFill>
                  <a:srgbClr val="000000"/>
                </a:solidFill>
                <a:latin typeface="Arial"/>
              </a:rPr>
              <a:t>Ivory</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 descr=""/>
          <p:cNvPicPr/>
          <p:nvPr/>
        </p:nvPicPr>
        <p:blipFill>
          <a:blip r:embed="rId1"/>
          <a:stretch/>
        </p:blipFill>
        <p:spPr>
          <a:xfrm>
            <a:off x="533520" y="1676520"/>
            <a:ext cx="335268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ket with Warriors and Dancers</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1"/>
          <a:stretch/>
        </p:blipFill>
        <p:spPr>
          <a:xfrm>
            <a:off x="304920" y="1600200"/>
            <a:ext cx="4429080" cy="37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Faced </a:t>
            </a:r>
            <a:r>
              <a:rPr b="1" i="1" lang="en-US" sz="2800" spc="-1" strike="noStrike">
                <a:solidFill>
                  <a:srgbClr val="000000"/>
                </a:solidFill>
                <a:latin typeface="Arial"/>
              </a:rPr>
              <a:t>Enkolp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zantine, late 11th-early 12th century</a:t>
            </a:r>
            <a:br>
              <a:rPr sz="2800"/>
            </a:br>
            <a:r>
              <a:rPr b="0" lang="en-US" sz="2800" spc="-1" strike="noStrike">
                <a:solidFill>
                  <a:srgbClr val="000000"/>
                </a:solidFill>
                <a:latin typeface="Arial"/>
              </a:rPr>
              <a:t>Gold and cloisonné enamel</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724280" y="1676520"/>
            <a:ext cx="3219480" cy="44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onna and Child</a:t>
            </a:r>
            <a:br>
              <a:rPr sz="2800"/>
            </a:br>
            <a:r>
              <a:rPr b="0" lang="en-US" sz="2800" spc="-1" strike="noStrike">
                <a:solidFill>
                  <a:srgbClr val="000000"/>
                </a:solidFill>
                <a:latin typeface="Arial"/>
              </a:rPr>
              <a:t>Tempera on wood, with gold groun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265896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 descr=""/>
          <p:cNvPicPr/>
          <p:nvPr/>
        </p:nvPicPr>
        <p:blipFill>
          <a:blip r:embed="rId1"/>
          <a:stretch/>
        </p:blipFill>
        <p:spPr>
          <a:xfrm>
            <a:off x="4648320" y="1676520"/>
            <a:ext cx="3047760" cy="44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entation in the Temple</a:t>
            </a:r>
            <a:br>
              <a:rPr sz="2800"/>
            </a:br>
            <a:r>
              <a:rPr b="1" lang="en-US" sz="2800" spc="-1" strike="noStrike">
                <a:solidFill>
                  <a:srgbClr val="000000"/>
                </a:solidFill>
                <a:latin typeface="Arial"/>
              </a:rPr>
              <a:t>Byzantine, probably 15th century</a:t>
            </a:r>
            <a:br>
              <a:rPr sz="2800"/>
            </a:br>
            <a:r>
              <a:rPr b="1" lang="en-US" sz="2800" spc="-1" strike="noStrike">
                <a:solidFill>
                  <a:srgbClr val="000000"/>
                </a:solidFill>
                <a:latin typeface="Arial"/>
              </a:rPr>
              <a:t>Tempera on wood</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4343400" y="1676520"/>
            <a:ext cx="442908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yzantine Art &amp; Cul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Byzantine Art Reveals about Byzantine Civil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and expressiveness of the figures portrayed in the art suggest the vitality and strength of Byzantine traditions, which have outlasted the fall of the emp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chness of the materials, especially the lavish use of gold, indicates weal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variety in the subject matter, media, and types of art attests to the taste and sophistication of the society that commissioned it and to the remarkable artistic skill of the craftsmen who created i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ing portrayal of classical themes and idealized human figures are visual reminders of the importance of the Greco-Roman heritage in Byzantine thou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yle and subject matter the arts of peoples as near as Rus', Georgia, Armenia, and Bulgaria, and as far away as western Europe and the middle East show the vast expanse of Byzantine cultural and artistic contac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thirteenth century, the art of the Catholic West and Orthodox East intermingled, resulting in a Byzantine style in Italy. This icon or "holy image," probably painted by a Greek artist working in Italy, is a perfect example of this fusion. The large panel represents a full-length figure of Mary enthroned as Queen of Heav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olds the infant Christ who, true to medieval convention, is a miniature adult. In the flanking medallions, archangels hold orbs and scepters, emphasizing Mary's imperial ro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600200" y="914400"/>
            <a:ext cx="6324480" cy="57913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a:t>
            </a:r>
            <a:br>
              <a:rPr sz="2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Byzantine</a:t>
            </a:r>
            <a:br>
              <a:rPr sz="4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
        <p:nvSpPr>
          <p:cNvPr id="5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y fourth century</a:t>
            </a:r>
            <a:r>
              <a:rPr b="0" lang="en-US" sz="3200" spc="-1" strike="noStrike">
                <a:solidFill>
                  <a:srgbClr val="000000"/>
                </a:solidFill>
                <a:latin typeface="Arial"/>
              </a:rPr>
              <a:t>The Armenians adopt Christianity as their state religion; they develop their own alphabet in the fif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Byzantine, Northern Syria, 6th-7th century</a:t>
            </a:r>
            <a:br>
              <a:rPr sz="3200"/>
            </a:br>
            <a:r>
              <a:rPr b="0" lang="en-US" sz="3200" spc="-1" strike="noStrike">
                <a:solidFill>
                  <a:srgbClr val="000000"/>
                </a:solidFill>
                <a:latin typeface="Arial"/>
              </a:rPr>
              <a:t>Silver, silver gil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533520" y="1600200"/>
            <a:ext cx="622908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Byzantin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7</a:t>
            </a:r>
            <a:r>
              <a:rPr b="0" lang="en-US" sz="3200" spc="-1" strike="noStrike">
                <a:solidFill>
                  <a:srgbClr val="000000"/>
                </a:solidFill>
                <a:latin typeface="Arial"/>
              </a:rPr>
              <a:t>Saint Nina converts the Georgians to Orthodox Christia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8:49:45Z</dcterms:created>
  <dc:creator>Littleton Prep</dc:creator>
  <dc:description/>
  <dc:language>en-US</dc:language>
  <cp:lastModifiedBy>Littleton Prep</cp:lastModifiedBy>
  <dcterms:modified xsi:type="dcterms:W3CDTF">2008-09-16T21:52:40Z</dcterms:modified>
  <cp:revision>5</cp:revision>
  <dc:subject/>
  <dc:title>Slide 1</dc:title>
</cp:coreProperties>
</file>