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AD22-D785-4628-B00B-70D47C1DF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D8AA-9BE1-4E3B-9F28-712E36581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2F07-838D-4B08-BEE9-5CB45B8EF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E9E1-18B4-442A-BAA6-5098BF089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88E9-81C5-45C0-84F7-04B712ECF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2603-9D83-4B54-8B3F-773141AA9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B02A-50FD-489C-96D1-239D15928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6303-0C0C-4650-B3CC-2D4E1AB18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A850-600E-454F-99B9-E6467841F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B845-CE09-4C1E-8A1A-35B7AA66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A103-F428-4411-B01B-B43D5F70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8836-33F2-4A67-94DF-EE3A16A5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9D60-82B8-4D85-9BFC-AACBCF4D71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hyperlink" Target="http://en.wikipedia.org/wiki/Discus_(disambiguation)" TargetMode="External"/><Relationship Id="rId4" Type="http://schemas.openxmlformats.org/officeDocument/2006/relationships/hyperlink" Target="http://en.wikipedia.org/wiki/Discobolus" TargetMode="External"/><Relationship Id="rId5" Type="http://schemas.openxmlformats.org/officeDocument/2006/relationships/hyperlink" Target="http://en.wikipedia.org/wiki/Copenhagen" TargetMode="External"/><Relationship Id="rId6" Type="http://schemas.openxmlformats.org/officeDocument/2006/relationships/hyperlink" Target="http://en.wikipedia.org/wiki/Denmark" TargetMode="External"/><Relationship Id="rId7" Type="http://schemas.openxmlformats.org/officeDocument/2006/relationships/hyperlink" Target="http://en.wikipedia.org/wiki/Track_and_field" TargetMode="External"/><Relationship Id="rId8" Type="http://schemas.openxmlformats.org/officeDocument/2006/relationships/hyperlink" Target="http://en.wikipedia.org/wiki/Disk_(mathematics)" TargetMode="External"/><Relationship Id="rId9" Type="http://schemas.openxmlformats.org/officeDocument/2006/relationships/hyperlink" Target="http://en.wikipedia.org/wiki/Classical_antiquity" TargetMode="External"/><Relationship Id="rId10" Type="http://schemas.openxmlformats.org/officeDocument/2006/relationships/hyperlink" Target="http://en.wikipedia.org/wiki/5th_century_BC" TargetMode="External"/><Relationship Id="rId11" Type="http://schemas.openxmlformats.org/officeDocument/2006/relationships/hyperlink" Target="http://en.wikipedia.org/wiki/Myron" TargetMode="External"/><Relationship Id="rId12" Type="http://schemas.openxmlformats.org/officeDocument/2006/relationships/hyperlink" Target="http://en.wikipedia.org/wiki/Discobolus" TargetMode="External"/><Relationship Id="rId13" Type="http://schemas.openxmlformats.org/officeDocument/2006/relationships/hyperlink" Target="http://en.wikipedia.org/wiki/Modern_pentathlon" TargetMode="External"/><Relationship Id="rId14" Type="http://schemas.openxmlformats.org/officeDocument/2006/relationships/hyperlink" Target="http://en.wikipedia.org/wiki/Pentathlon" TargetMode="External"/><Relationship Id="rId15" Type="http://schemas.openxmlformats.org/officeDocument/2006/relationships/hyperlink" Target="http://en.wikipedia.org/wiki/708_BC" TargetMode="External"/><Relationship Id="rId16" Type="http://schemas.openxmlformats.org/officeDocument/2006/relationships/slide" Target="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conic" TargetMode="External"/><Relationship Id="rId2" Type="http://schemas.openxmlformats.org/officeDocument/2006/relationships/hyperlink" Target="http://en.wikipedia.org/wiki/Olympic_Games" TargetMode="External"/><Relationship Id="rId3" Type="http://schemas.openxmlformats.org/officeDocument/2006/relationships/hyperlink" Target="http://en.wikipedia.org/wiki/Summer_Olympic_Games" TargetMode="External"/><Relationship Id="rId4" Type="http://schemas.openxmlformats.org/officeDocument/2006/relationships/hyperlink" Target="http://en.wikipedia.org/wiki/1896_Summer_Olympics" TargetMode="External"/><Relationship Id="rId5" Type="http://schemas.openxmlformats.org/officeDocument/2006/relationships/slide" Target=""/><Relationship Id="rId6" Type="http://schemas.openxmlformats.org/officeDocument/2006/relationships/hyperlink" Target="http://en.wikipedia.org/wiki/Image:1920_olympics_poster.jpg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iscus Thr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us th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Wikipedia, the free encyclop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mp to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navigation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Discus" redirects here. For other uses, see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Discus (disambiguation)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ue of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discus thrower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in Botanic Garden,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Copenhagen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Den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us thro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n event in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track and field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competition, in which an athlete throws a heavy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disc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 — itself called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— in an attempt to mark a farther distance than his or her competitors. It is an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ancient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sport, as evidenced by the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5th century BC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Myron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statue,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Discobol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Although not part of the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modern pentathlon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, it was one of the events of the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ancient pentathlon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, which can be dated at least back to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708 BC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[1]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t did not have avery long trad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iscus Thr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outine part of most modern track and field meets at all levels, it is a sport which is particularly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icon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of the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Olympic Game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 The men's competition has been a part of the modern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Summer Olympic Game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since the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first Olympiad in 1896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 Images of discus throwers figured prominently in advertising for early modern Games, such as fundraising stamps for the 1896 games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[2]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and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the main poster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for the 1920 and 1948 Summer Olympics.[3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men's competition was added to the Olympic program in the 1928 games, although they had been competing at some national and regional levels previous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Image:Discus Thrower Copenhagen.jpg"/>
          <p:cNvPicPr/>
          <p:nvPr/>
        </p:nvPicPr>
        <p:blipFill>
          <a:blip r:embed="rId1"/>
          <a:stretch/>
        </p:blipFill>
        <p:spPr>
          <a:xfrm>
            <a:off x="1371600" y="53352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How To Draw Peo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human figure practice by Adam Polselli."/>
          <p:cNvPicPr/>
          <p:nvPr/>
        </p:nvPicPr>
        <p:blipFill>
          <a:blip r:embed="rId1"/>
          <a:stretch/>
        </p:blipFill>
        <p:spPr>
          <a:xfrm>
            <a:off x="533520" y="1752480"/>
            <a:ext cx="62103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Examples: Life Draw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life drawing by Dane Rich."/>
          <p:cNvPicPr/>
          <p:nvPr/>
        </p:nvPicPr>
        <p:blipFill>
          <a:blip r:embed="rId1"/>
          <a:stretch/>
        </p:blipFill>
        <p:spPr>
          <a:xfrm>
            <a:off x="457200" y="1523880"/>
            <a:ext cx="345744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wn by Student in 6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441936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wn by Student in 6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3219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wn by Student in 6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336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A10: Human Skeleton Model Stan, on pelvic mounted 4 foot roller stand"/>
          <p:cNvPicPr/>
          <p:nvPr/>
        </p:nvPicPr>
        <p:blipFill>
          <a:blip r:embed="rId1"/>
          <a:stretch/>
        </p:blipFill>
        <p:spPr>
          <a:xfrm>
            <a:off x="533520" y="228600"/>
            <a:ext cx="22096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15:35:51Z</dcterms:created>
  <dc:creator>Littleton Prep</dc:creator>
  <dc:description/>
  <dc:language>en-US</dc:language>
  <cp:lastModifiedBy>Littleton Prep</cp:lastModifiedBy>
  <dcterms:modified xsi:type="dcterms:W3CDTF">2008-09-02T15:33:55Z</dcterms:modified>
  <cp:revision>5</cp:revision>
  <dc:subject/>
  <dc:title>The Renaissance 1350-1600</dc:title>
</cp:coreProperties>
</file>