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43D-9145-467A-B935-04211CC0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E52-C168-452F-9B18-F705F563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5A7-1A2E-4A5C-82F5-B65440D2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1DF-EB80-438D-863F-C91AFE9F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9B6-EA2B-476E-93F7-EADAD031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61D-4D3D-4F78-AFAF-16964871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88B-8CE0-4AD1-8831-237F86CF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0AC-F320-4D21-9BD1-65777D8E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7DA4-048C-4AD0-A549-E0157E41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2EB-DADE-4BA1-8082-DC68D063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D17-5D36-487A-9091-A098F8AF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3B0-600F-4DF9-B7DC-B6D4DD91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400B-BDCD-4AEF-98BB-9084BFC13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gR3XlJvnMBURSJzbkF;_ylu=X3oDMTBpaWhqZmNtBHBvcwMzBHNlYwNzcgR2dGlkAw--/SIG=1n78pg78v/EXP=1232809617/**http%3A//images.search.yahoo.com/images/view%3Fback=http%253A%252F%252Fimages.search.yahoo.com%252Fsearch%252Fimages%253F_adv_prop%253Dimage%2526fr%253Dush_mailm%2526va%253Dpaint%252Bbrush%252Bart%2526sz%253Dall%2526vm%253Dr%26w=500%26h=375%26imgurl=static.flickr.com%252F2027%252F2035625514_9855b5d8a6.jpg%26rurl=http%253A%252F%252Fwww.flickr.com%252Fphotos%252F20889638%2540N05%252F2035625514%252F%26size=210.5kB%26name=Paint%2BBrush%2BAperture%26p=paint%2Bbrush%2Bart%26type=JPG%26oid=4d14e2cbaef054f4%26fusr=doubletrouble1242%26tit=Paint%2BBrush%2BAperture%26hurl=http%253A%252F%252Fwww.flickr.com%252Fphotos%252F20889638%2540N05%252F%26no=3%26tt=26,177%26sigr=11lk9d6lp%26sigi=11gnbn5cb%26sigb=138b13dfr%26sigh=11ajgafd6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artgallery.com.au/ArtEducation/greatartists/Raphae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We Talk About Ar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05740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-The path of a moving point. Made visible because of a difference in color or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-An area that stands out in a picture due to outlining or different shades or col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- The degree of light or dark. The degree of light or dark within a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ure- The surface of a material which can be experienced through touch/feel (actual texture). Texture also includes the “illusion” that there is texture (2-dimensional wor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- visual response to the wavelength of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olors: red, yellow and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colors: orange, purple and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ther Terms Can We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Art- Looks “real” like a phot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presentational Art- Does not look “real” does not represent anything or any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-Representational- The viewer can distinguish what the artist is creating but it does not look “re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Talk About This Picture-Please Remember TO Raise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Try To Use The Vocabulary We Just Cover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ool of Athens 1510-15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The School of Athe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676520"/>
            <a:ext cx="71629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5:05:33Z</dcterms:created>
  <dc:creator>Littleton Prep</dc:creator>
  <dc:description/>
  <dc:language>en-US</dc:language>
  <cp:lastModifiedBy>Littleton Prep</cp:lastModifiedBy>
  <dcterms:modified xsi:type="dcterms:W3CDTF">2009-01-23T15:56:55Z</dcterms:modified>
  <cp:revision>4</cp:revision>
  <dc:subject/>
  <dc:title>How Can We Talk About Art??</dc:title>
</cp:coreProperties>
</file>