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EC72-160B-4BC5-B341-FFCEF5204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77BC-9AB6-4929-A3A4-0230965D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FFAB-99F9-4C8C-888B-5072B6021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1D5D-22F3-4911-A64B-FE2497EF2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27222-3B35-4D52-A06D-3665D2D0E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874DA-A08B-4A4E-A665-9F1EB9AA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2F045-C1C9-42DC-A3DD-D796BDB1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F4A68-E505-476A-AFEB-99F6F4F6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3ACCD-FDFD-43C4-892D-0D13A5D3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57F9D-19E8-4F1E-9ABD-68DC6120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176BD-CACD-4CD8-844A-EF7BD6D2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B578-2C11-451D-A470-3C5D4595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720FF-70DB-496F-A10E-4C7279CF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6D8F2-6CCD-4EAA-A125-D4C3D3B2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4EF7F-F469-44D8-9C34-2B0ED3B0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123C5-82AA-4DDA-9C53-EDE51AE23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76CEC-116F-4330-8E73-B8DAB9C0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8343-533E-42A5-9C6A-98D6D595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F13E-3B4F-4F8B-847C-8625B18C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5EEF-EBB7-4A44-B019-DB79D451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5C6D-3113-4010-97F3-363F15EA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5DB3-8CFF-456C-BBE1-00638E8A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B21C-9D5A-44F5-81A6-2C9E73FE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7B63-C107-4A83-89F7-EDEF83C7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3913-2155-4768-8F86-943562480E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69C4-0887-44B0-BD96-DBDEAF0B04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elett Burges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rple C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uff Your Fish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the newspap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unch up the newspa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ff it into your fish through the mouth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s Your Fish Fat Yet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should all have well fed fish now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ish should be 3-D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ose The Mouth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teacher will come around and staple the mouth sh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xt a teacher will come around and hole punch the mouth (this punch should be as far into the fish as possible to prevent ripp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shing Line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teacher will help you string clear fishing line through the fishes hole-punched mou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xt we will fasten a large paper clip to the end of the 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w your fish has been caugh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can hang him/her from the ceiling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d You Have Fun Fishing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urple Co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NEVER saw a Purple Cow;  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never hope to See One;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I can Tell you, Anyhow, 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'd rather See than Be One.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e Cows Really Purpl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nimals can be purpl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e are going to make purple fish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a fish were purple would it most likely be a freshwater fish or a salt water fish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ach of you should have one large sheet of purple pap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ease fold your paper in half-horizontally/hotdog w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ease use a pencil to draw this out line on your pa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ease cut out your purple f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sh have scales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ease use a pencil to draw in scales on your f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should put the scales ALL over your f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a pencil to draw on ey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lor Your Fis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ease use colored pencil to color in your f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 your tim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sh Have Eyes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ease glue the google eyes onto your fish where their eyes would 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le your fish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teacher will come around and staple your fish for 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eacher will leave the mouth open (at least five inch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19:52:20Z</dcterms:created>
  <dc:creator>Matthew Cleveland</dc:creator>
  <dc:description/>
  <dc:language>en-US</dc:language>
  <cp:lastModifiedBy>Matthew Cleveland</cp:lastModifiedBy>
  <dcterms:modified xsi:type="dcterms:W3CDTF">2007-11-25T20:30:25Z</dcterms:modified>
  <cp:revision>2</cp:revision>
  <dc:subject/>
  <dc:title>Gelett Burgess </dc:title>
</cp:coreProperties>
</file>