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ABD-9741-4CA1-92CE-4953BC94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672-820E-4543-AA3F-3AA148B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7F1-21EF-4D94-B6F5-33DC48C3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548-CA27-4EF2-B361-2868F8EF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43F58-A658-4AC3-B95C-24418827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FBB54-38C2-4458-AF81-F63C62BD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C467-5F24-4615-AAF0-84B460D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C1A58-A533-423F-92E2-7948CD96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07E6C-2E94-4820-B909-7CAA0AE2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7BC1F-454F-4867-B562-05D97E21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E7353-66EE-4F37-A586-E9CCB0B7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CE6-4B10-465C-B11B-A1203C00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57202-8647-492A-BF03-92FF6BFB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49108-9B68-4E68-9943-1BBFE165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273A9-A177-4ECF-A039-09C556B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E7E8B-C509-4967-8369-F74E776B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B7C81-B336-4BCE-B6FC-64E1B2AF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0A9-E1FF-4AA4-9783-9CEB89B8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8AF-E5AF-4B62-840E-D54CC47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E36-8E10-4532-9465-AA742D3A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DBD-FDA2-47EC-B182-65753300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A8A-E170-4161-BDDB-9769CBF6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FE9-ACFE-4DFF-8D05-54BC6435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5CD-6A3D-446B-B078-5C06DF20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A87C-B04A-436F-8B43-894567D3E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4234-2AA0-4F2E-A30F-339530BACA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lett Burges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le C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ff Your Fis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newspap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unch up the news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ff it into your fish through the mout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 Your Fish Fat Ye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ould all have well fed fish 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sh should be 3-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ose The Mout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come around and staple the mouth sh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a teacher will come around and hole punch the mouth (this punch should be as far into the fish as possible to prevent ripp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ing Lin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help you string clear fishing line through the fishes hole-punched m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we will fasten a large paper clip to the end of the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your fish has been caugh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hang him/her from the ceil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d You Have Fun Fish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ple C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EVER saw a Purple Cow;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ever hope to See One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I can Tell you, Anyhow,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'd rather See than Be One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ows Really Purpl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nimals can be purp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are going to make purple fish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fish were purple would it most likely be a freshwater fish or a salt water f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ch of you should have one large sheet of purple pap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fold your paper in half-horizontally/hotdog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a pencil to draw this out line on your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cut out your purple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 have scal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a pencil to draw in scales on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put the scales ALL over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pencil to draw on e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r Your F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colored pencil to color in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your ti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 Have Ey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glue the google eyes onto your fish where their eyes would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le your fis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come around and staple your fish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will leave the mouth open (at least five inch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52:20Z</dcterms:created>
  <dc:creator>Matthew Cleveland</dc:creator>
  <dc:description/>
  <dc:language>en-US</dc:language>
  <cp:lastModifiedBy>Matthew Cleveland</cp:lastModifiedBy>
  <dcterms:modified xsi:type="dcterms:W3CDTF">2007-11-25T20:30:25Z</dcterms:modified>
  <cp:revision>2</cp:revision>
  <dc:subject/>
  <dc:title>Gelett Burgess </dc:title>
</cp:coreProperties>
</file>