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E47A-9864-4671-8CE2-E2D35CAA1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BA9F-1ACA-4035-9019-BBB380B4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06C3-A0A9-436E-A570-7B544BE2C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3D05-F7B9-4747-865A-4E09FE9B5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F147-C4C6-4DF0-9464-958957CA2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D779-1976-4A40-A055-485EC370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86A9-174A-43D9-BFD8-8B033581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9530-F586-4459-A83B-DD3D09CA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868B-DA87-41E6-9994-17D17B31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F1A1-CE4F-4228-AB3F-19464451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C6E4-CCE1-451A-A410-ACA75862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9461-A8CA-49C9-96E1-FED34164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259E-7BB4-4AA8-85F2-6D8B76F5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87EC-BDAF-4F14-9CD9-3BA66A23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B491-7DA2-4AAE-AF51-B9D88396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FA29-45DB-44B2-95C1-56B33D28C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E0CA-3939-43F2-B050-B6BDDD9F7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D349-4D33-4B41-9AB3-9B4B4D56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8C5F-8E95-416B-9B61-B8CA571B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5584-1477-4E6A-826B-236B36F7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8BEA-B3D0-4931-8EE3-913C555C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77AD-1DE7-47BD-B473-EB403142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5819-9578-4823-B462-3DAEFDE9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5387-B63F-4F52-B459-F873CF94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6FF0-14DD-473D-92A3-85F44F9512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4C99-1C98-4B95-AB00-880A16AD2B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Are Landscape Drawing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as: they may include hills, trees, mountai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omas Cole “The Oxbow”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80769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l Greco “View of Toledo”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371600" y="1066680"/>
            <a:ext cx="6248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enri Rousseau “Virgin Forest”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" descr="&quot;Virgin Forest&quot; Print"/>
          <p:cNvPicPr/>
          <p:nvPr/>
        </p:nvPicPr>
        <p:blipFill>
          <a:blip r:embed="rId2"/>
          <a:stretch/>
        </p:blipFill>
        <p:spPr>
          <a:xfrm>
            <a:off x="1676520" y="1371600"/>
            <a:ext cx="5486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Vincent van Gogh “The Starry Night”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219320" y="1523880"/>
            <a:ext cx="659124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Now it is time for you to make your own landscape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y to make a “Colorado” landscap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ill be using yellow construction paper, pencil, colored pencils, cotton for “snow” and gl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fun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20:49:44Z</dcterms:created>
  <dc:creator>Matthew Cleveland</dc:creator>
  <dc:description/>
  <dc:language>en-US</dc:language>
  <cp:lastModifiedBy>Matthew Cleveland</cp:lastModifiedBy>
  <dcterms:modified xsi:type="dcterms:W3CDTF">2007-11-25T21:11:09Z</dcterms:modified>
  <cp:revision>3</cp:revision>
  <dc:subject/>
  <dc:title>What Are Landscape Drawings?</dc:title>
</cp:coreProperties>
</file>