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A9F-1E3C-433B-8D44-47C11568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DC6-14E5-41C2-B301-9E4A0D47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F7E-AE8C-4584-AF3E-22E2A9D8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3A7-E183-4357-A3AA-7AFCBBA9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6662-A968-4785-B453-6207D9CA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5C65-55CF-4E88-9B4E-E780D8B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0C9-2CA0-4ED2-B3A6-3D8198E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337-F39A-4227-BA2F-165FF37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F6A-CF9D-423E-9177-69F2520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266-F563-442F-8213-C3F59385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1808-4988-4549-AC06-9925C844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D75-CB88-43CD-A986-5B65F5E6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0E7E-5ADF-450A-8FC6-8582EE9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1BD-BBF0-4910-8390-C603E21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1C77-5774-4856-98D9-DAC3AD9C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93DC-B9D6-4890-9603-9CDFB2B2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969-6B86-42D3-A278-E09F5617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FA6-7E87-4376-8C7D-94C6A0BE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CDE-EA72-4F6C-A056-B92AD700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309-75D9-49BC-94A2-C5A9BA16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5EF-0451-4B69-A9F1-D6259B0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73F-6B2E-4FA5-8C49-793939E0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BFD-9E2F-44D3-A4F3-C9F4CD0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3B7-52C4-456D-8723-AAA2CF2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31A4-C5B0-49D1-827D-C49151C33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3CD-352E-4692-A644-C30FEF45E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Landscape Drawing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as: they may include hills, trees, mountai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omas Cole “The Oxbow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l Greco “View of Toledo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nri Rousseau “Virgin Forest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&quot;Virgin Forest&quot; Print"/>
          <p:cNvPicPr/>
          <p:nvPr/>
        </p:nvPicPr>
        <p:blipFill>
          <a:blip r:embed="rId2"/>
          <a:stretch/>
        </p:blipFill>
        <p:spPr>
          <a:xfrm>
            <a:off x="1676520" y="1371600"/>
            <a:ext cx="5486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ncent van Gogh “The Starry Night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91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Now it is time for you to make your own landscape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make a “Colorado” landscap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be using yellow construction paper, pencil, colored pencils, cotton for “snow” and g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0:49:44Z</dcterms:created>
  <dc:creator>Matthew Cleveland</dc:creator>
  <dc:description/>
  <dc:language>en-US</dc:language>
  <cp:lastModifiedBy>Matthew Cleveland</cp:lastModifiedBy>
  <dcterms:modified xsi:type="dcterms:W3CDTF">2007-11-25T21:11:09Z</dcterms:modified>
  <cp:revision>3</cp:revision>
  <dc:subject/>
  <dc:title>What Are Landscape Drawings?</dc:title>
</cp:coreProperties>
</file>