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D2D-E805-4D8A-85FF-1F28A142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9E9-8553-42B1-9427-C13A899E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FE0-A6AC-4F14-B0E1-BFDE6979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F0B-0E44-4760-8D4F-FC53DF7E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99E-3723-4BDA-9C17-C82F86B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723-E35A-4B3B-BA7B-826093A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986-314B-452B-B601-01A31B5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D24-3F7A-4000-BAB1-97E77712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087-1B89-4EDC-A91B-8D3D127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1BD-5F83-4434-9710-F145156A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334-A34B-4723-ACEB-ED64E0E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DDF-90C0-4CD4-9D32-643BC57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615F-8FB5-4952-94D8-D0109493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lexander Calder. Lobster Trap and Fish Tail. Roxbury, Connecticut, 1939"/>
          <p:cNvPicPr/>
          <p:nvPr/>
        </p:nvPicPr>
        <p:blipFill>
          <a:blip r:embed="rId1"/>
          <a:stretch/>
        </p:blipFill>
        <p:spPr>
          <a:xfrm>
            <a:off x="2666880" y="2286000"/>
            <a:ext cx="412452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Calder: Lobster Trap &amp; Fish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lobster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11240" y="2603520"/>
            <a:ext cx="532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6200" y="1219320"/>
            <a:ext cx="6591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bile has 2 sid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make lobster mobi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eed to have 6 lobs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ets of 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, paint or crayons, scissors, pencils, glue, yarn and goggl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28:31Z</dcterms:created>
  <dc:creator>Littleton Prep</dc:creator>
  <dc:description/>
  <dc:language>en-US</dc:language>
  <cp:lastModifiedBy>Littleton Prep</cp:lastModifiedBy>
  <dcterms:modified xsi:type="dcterms:W3CDTF">2007-12-21T19:29:03Z</dcterms:modified>
  <cp:revision>1</cp:revision>
  <dc:subject/>
  <dc:title>Slide 1</dc:title>
</cp:coreProperties>
</file>