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CAC-113B-4D15-BCB1-0B0E5CCB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BFE-7DA8-4B70-AF98-4AB57426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3DE-B96D-40FE-BC2C-13CAD5B8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1E4-2846-4961-8E1C-939EB1DB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2E7-3D00-4E18-95E0-235C2A3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015-5A32-485E-9DD6-FA69CCFB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665-2827-41CC-B5F4-B4252342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8521-AD81-41FB-9B80-F0D68D4D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9B7-ACA0-454E-89CE-3D1FAECC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B3D-D03B-4A9E-A287-1D860B8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627-05CC-4E76-8B89-4DC052B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6DB-F914-48D0-A8EF-76295199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0BD-F205-4174-807C-47F58C3D8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lexander Calder. Lobster Trap and Fish Tail. Roxbury, Connecticut, 1939"/>
          <p:cNvPicPr/>
          <p:nvPr/>
        </p:nvPicPr>
        <p:blipFill>
          <a:blip r:embed="rId1"/>
          <a:stretch/>
        </p:blipFill>
        <p:spPr>
          <a:xfrm>
            <a:off x="2666880" y="2286000"/>
            <a:ext cx="412452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Calder: Lobster Trap &amp; Fish 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lobsters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11240" y="2603520"/>
            <a:ext cx="532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76200" y="1219320"/>
            <a:ext cx="6591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bile has 2 sid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make lobster mobi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need to have 6 lobs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ets of 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, paint or crayons, scissors, pencils, glue, yarn and goggl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28:31Z</dcterms:created>
  <dc:creator>Littleton Prep</dc:creator>
  <dc:description/>
  <dc:language>en-US</dc:language>
  <cp:lastModifiedBy>Littleton Prep</cp:lastModifiedBy>
  <dcterms:modified xsi:type="dcterms:W3CDTF">2007-12-21T19:29:03Z</dcterms:modified>
  <cp:revision>1</cp:revision>
  <dc:subject/>
  <dc:title>Slide 1</dc:title>
</cp:coreProperties>
</file>