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04A-AB8C-47CF-80B6-D724F155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E4F-72C9-409D-B210-01597907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1C3-FE2C-43F9-AFF2-96E8D78D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965-F6BF-45B2-90F9-A3ECBC41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AC6-C0E3-4AAB-BA61-C82F7F4E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FA5-8578-4236-913F-8600573B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72C0-762F-446C-B9CF-8F6B467A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6BF-CD75-47A4-B6E9-6B4123CF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1D5-1937-4F14-BC5F-9C379996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B07-329D-423E-AAD7-6029BBA7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A35A-BC95-418F-AF31-3E1F88A1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330-39BA-4130-A2ED-2303F549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0D26-772F-4DAB-A9DF-28E967091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orthern_hemisphere" TargetMode="External"/><Relationship Id="rId2" Type="http://schemas.openxmlformats.org/officeDocument/2006/relationships/hyperlink" Target="http://en.wikipedia.org/wiki/March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ime Of The Year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ees will start to bud, the animals will come out of hibernation…..birds will s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guessed right! Spring is on the w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rriam-Webster Dictio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at spring comprises "in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rthern hemisphe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usually the months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c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April, May, or as reckoned astronomically extending from the vernal equinox (March 20) to the June solstice (June 21)."[1]. The Southern Hemisphere experience spring during the months of August, September, Octo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they mean by in the “northern”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n’t spring occur at the same time of the year across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on It Will Be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May in Australia is the month before winter begins, most of the continent still enjoys an average top temperature of about 20°C (68°F). In Tasmania, of course, the temperature could plunge below an average daytime high of 17°C (63°F)and northern Queensland could reach a top average of 27°C (81°F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a “spring” projec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you will be given a large sheet of whit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ly, you will be given a sheet of blu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 paper should be cut into the type of sky that you w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that blue paper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look at the pictures of the animals that I printed out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your “spring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5:54:19Z</dcterms:created>
  <dc:creator>Littleton Prep</dc:creator>
  <dc:description/>
  <dc:language>en-US</dc:language>
  <cp:lastModifiedBy>Littleton Prep</cp:lastModifiedBy>
  <dcterms:modified xsi:type="dcterms:W3CDTF">2008-03-10T15:54:38Z</dcterms:modified>
  <cp:revision>1</cp:revision>
  <dc:subject/>
  <dc:title>What Time Of The Year Is It?</dc:title>
</cp:coreProperties>
</file>