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172-13DF-441A-BF20-35D015B7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8B5-8EA4-4935-8394-A5E60351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24F-F714-45C3-9D74-0BB4C65D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FE09-6FE7-4AF2-8FA4-D8540580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5A0-AB79-4EF7-A043-FCCB32E6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C40-FCB1-4C22-AC64-EDE36C2D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EA8-2927-4412-A6BE-4469B310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901-27B2-4878-84DE-71AD0C4D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23B-C733-4D72-A724-5FBCF946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87C-398A-47DA-8E4F-3B6FB099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840-3D51-498B-BEF5-6C19C618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1F6-57D3-4FA6-BEB8-FC8F8823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3DAF-BE2E-4712-9534-3A94B0850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orthern_hemisphere" TargetMode="External"/><Relationship Id="rId2" Type="http://schemas.openxmlformats.org/officeDocument/2006/relationships/hyperlink" Target="http://en.wikipedia.org/wiki/March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ime Of The Year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ees will start to bud, the animals will come out of hibernation…..birds will s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guessed right! Spring is on the wa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rriam-Webster Dictio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at spring comprises "in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rthern hemisphe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usually the months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c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April, May, or as reckoned astronomically extending from the vernal equinox (March 20) to the June solstice (June 21)."[1]. The Southern Hemisphere experience spring during the months of August, September, Octo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they mean by in the “northern”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n’t spring occur at the same time of the year across the wor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on It Will Be 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May in Australia is the month before winter begins, most of the continent still enjoys an average top temperature of about 20°C (68°F). In Tasmania, of course, the temperature could plunge below an average daytime high of 17°C (63°F)and northern Queensland could reach a top average of 27°C (81°F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going to make a “spring” projec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you will be given a large sheet of whit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ly, you will be given a sheet of blu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ue paper should be cut into the type of sky that you wa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e that blue paper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look at the pictures of the animals that I printed out for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your “spring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5:54:19Z</dcterms:created>
  <dc:creator>Littleton Prep</dc:creator>
  <dc:description/>
  <dc:language>en-US</dc:language>
  <cp:lastModifiedBy>Littleton Prep</cp:lastModifiedBy>
  <dcterms:modified xsi:type="dcterms:W3CDTF">2008-03-10T15:54:38Z</dcterms:modified>
  <cp:revision>1</cp:revision>
  <dc:subject/>
  <dc:title>What Time Of The Year Is It?</dc:title>
</cp:coreProperties>
</file>