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D3B2D-0151-4C9A-A536-D2AB00560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CE35A-9996-45D7-8180-FD45C36B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6F112-14B1-449F-B3AE-E8AD37471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EC97B-C77A-428B-B2E6-C84DB239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E88A-477B-45DE-899B-EA020B4FD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ABF69-63A9-46EF-BC46-73F7E5A89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9406-CAC2-4D50-AE38-B2DF4F753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30F33-992A-40AF-91FD-EBBC130BF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6745-9B2B-4F60-814C-130BC941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BF3C-38FC-436B-9D92-25BB0D6E1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39B6F-9753-48E8-BE57-7B98EB2D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E127-7AEE-41C0-8D48-4EFDE9451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0E21-2660-4384-ABD4-6600CDAA6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make a value ch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start with black and very gradually fade to whi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est with art pencil or number two pencil-mechanical pencils make it H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ing fac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basic stages in the creation of this im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sing line drawing to organize the position, shape and proportion of the featu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ing softly shaded tone to create the form and texture of each fe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larger areas of tone to unite all the elements of the portrait.</a:t>
            </a:r>
            <a:endParaRPr b="0" lang="en-US" sz="2000" spc="-1" strike="noStrike">
              <a:solidFill>
                <a:srgbClr val="000000"/>
              </a:solidFill>
              <a:latin typeface="Arial"/>
            </a:endParaRPr>
          </a:p>
        </p:txBody>
      </p:sp>
      <p:pic>
        <p:nvPicPr>
          <p:cNvPr id="65" name="" descr=""/>
          <p:cNvPicPr/>
          <p:nvPr/>
        </p:nvPicPr>
        <p:blipFill>
          <a:blip r:embed="rId1"/>
          <a:stretch/>
        </p:blipFill>
        <p:spPr>
          <a:xfrm>
            <a:off x="609480" y="1523880"/>
            <a:ext cx="35816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try drawing individual parts of the fac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ere could you add sh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that make the lips look more “real” or 3-dimensional?</a:t>
            </a:r>
            <a:endParaRPr b="0" lang="en-US" sz="2800" spc="-1" strike="noStrike">
              <a:solidFill>
                <a:srgbClr val="000000"/>
              </a:solidFill>
              <a:latin typeface="Arial"/>
            </a:endParaRPr>
          </a:p>
        </p:txBody>
      </p:sp>
      <p:pic>
        <p:nvPicPr>
          <p:cNvPr id="69" name="" descr="Drawing the Mouth - Step 1"/>
          <p:cNvPicPr/>
          <p:nvPr/>
        </p:nvPicPr>
        <p:blipFill>
          <a:blip r:embed="rId1"/>
          <a:stretch/>
        </p:blipFill>
        <p:spPr>
          <a:xfrm>
            <a:off x="533520" y="1676520"/>
            <a:ext cx="4190760" cy="244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 to try th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The Initial Line Drawing The mouth is the second most expressive feature of the face. Start by drawing the subtle shape of the line that is formed as the lips meet. This will set a natural expression for the mouth. The top lip has its characteristic bow shape which varies considerably from person to person. The bottom lip is usually larger than the top and more creased with vertical stretch lines.</a:t>
            </a:r>
            <a:endParaRPr b="0" lang="en-US" sz="2000" spc="-1" strike="noStrike">
              <a:solidFill>
                <a:srgbClr val="000000"/>
              </a:solidFill>
              <a:latin typeface="Arial"/>
            </a:endParaRPr>
          </a:p>
        </p:txBody>
      </p:sp>
      <p:pic>
        <p:nvPicPr>
          <p:cNvPr id="73" name="" descr="Drawing the Mouth - Step 2"/>
          <p:cNvPicPr/>
          <p:nvPr/>
        </p:nvPicPr>
        <p:blipFill>
          <a:blip r:embed="rId1"/>
          <a:stretch/>
        </p:blipFill>
        <p:spPr>
          <a:xfrm>
            <a:off x="457200" y="160020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pper lip slopes inwards and is normally darker in tone as it is shaded from the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wer lip is more fleshy with a stronger muscular structure. It tends to catch the light and is further distinguished by the shadow below its pouting 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Good Job!!</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ne is used to soften the edges and refine the detail of the mouth. Not only should it highlight the surface texture of the skin, but it should also make you more aware of the muscular structure that lies benea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 subtle softening around the edges of the lips which helps to blend them comfortably into the face. </a:t>
            </a:r>
            <a:endParaRPr b="0" lang="en-US" sz="2000" spc="-1" strike="noStrike">
              <a:solidFill>
                <a:srgbClr val="000000"/>
              </a:solidFill>
              <a:latin typeface="Arial"/>
            </a:endParaRPr>
          </a:p>
        </p:txBody>
      </p:sp>
      <p:pic>
        <p:nvPicPr>
          <p:cNvPr id="79" name="" descr="Drawing the Mouth - Step 3"/>
          <p:cNvPicPr/>
          <p:nvPr/>
        </p:nvPicPr>
        <p:blipFill>
          <a:blip r:embed="rId1"/>
          <a:stretch/>
        </p:blipFill>
        <p:spPr>
          <a:xfrm>
            <a:off x="533520" y="167652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we apply the different shades from the chart to artwork??</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ample of what you could achieve by using different shades-notice that shading makes the figure look more “real” or 3-dimensional!</a:t>
            </a:r>
            <a:endParaRPr b="0" lang="en-US" sz="2800" spc="-1" strike="noStrike">
              <a:solidFill>
                <a:srgbClr val="000000"/>
              </a:solidFill>
              <a:latin typeface="Arial"/>
            </a:endParaRPr>
          </a:p>
        </p:txBody>
      </p:sp>
      <p:pic>
        <p:nvPicPr>
          <p:cNvPr id="51" name="" descr=""/>
          <p:cNvPicPr/>
          <p:nvPr/>
        </p:nvPicPr>
        <p:blipFill>
          <a:blip r:embed="rId1"/>
          <a:stretch/>
        </p:blipFill>
        <p:spPr>
          <a:xfrm>
            <a:off x="533520" y="1447920"/>
            <a:ext cx="4257720" cy="51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adding shad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re your light source is. Where the light would hit the subject the most is where the least shading will 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ark shading to the area farthest away from the light source. A simple way to add shading is to use the side of your pencil tip. Rub the pencil along the area you want to shade and then smudge the marks towards the light source with you finger. This will make the marks go from dark to light as they get closer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way to add shading is to draw lighter and lighter lines as you get closer to the light source. This is shown in the exam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should curve around the object to show it's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some examples!! What do you notice?</a:t>
            </a:r>
            <a:endParaRPr b="0" lang="en-US" sz="4000" spc="-1" strike="noStrike">
              <a:solidFill>
                <a:srgbClr val="000000"/>
              </a:solidFill>
              <a:latin typeface="Arial"/>
            </a:endParaRPr>
          </a:p>
        </p:txBody>
      </p:sp>
      <p:pic>
        <p:nvPicPr>
          <p:cNvPr id="61" name="" descr=""/>
          <p:cNvPicPr/>
          <p:nvPr/>
        </p:nvPicPr>
        <p:blipFill>
          <a:blip r:embed="rId1"/>
          <a:stretch/>
        </p:blipFill>
        <p:spPr>
          <a:xfrm>
            <a:off x="1371600" y="1523880"/>
            <a:ext cx="518148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5:22:33Z</dcterms:created>
  <dc:creator>Littleton Prep</dc:creator>
  <dc:description/>
  <dc:language>en-US</dc:language>
  <cp:lastModifiedBy>Littleton Prep</cp:lastModifiedBy>
  <dcterms:modified xsi:type="dcterms:W3CDTF">2008-09-23T15:30:29Z</dcterms:modified>
  <cp:revision>4</cp:revision>
  <dc:subject/>
  <dc:title>First-make a value chart!</dc:title>
</cp:coreProperties>
</file>