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380B8-6F99-4EEB-B985-BBEDAA906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ADE96-4CB4-44DD-9B6A-72A6D220A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5DAA9-D32C-4A94-B8B8-F5FD6B8C7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55396-AAC5-4A18-B664-73D5F45AC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CE5B7-3BE7-4BA4-975B-7A61D9C89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473D7-9C9D-4B5A-B984-B2360529C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99A75-0F90-4747-82A4-B24225749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D73A5-6981-40B1-99E7-C47E06BA8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66BB-35A6-4F16-B746-DA334ADC2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32E8E-CA99-415B-8B00-532543172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450D-437A-4AE1-8B4B-199CDA5B7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A12CC-C17D-42BE-B777-0EFF8BD52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8282-28B5-49B5-A42D-249BEEE80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make a value ch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hould start with black and very gradually fade to whit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est with art pencil or number two pencil-mechanical pencils make it H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ing fac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hree basic stages in the creation of this imag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Using line drawing to organize the position, shape and proportion of the featu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Using softly shaded tone to create the form and texture of each fea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larger areas of tone to unite all the elements of the portrait.</a:t>
            </a:r>
            <a:endParaRPr b="0" lang="en-US" sz="2000" spc="-1" strike="noStrike">
              <a:solidFill>
                <a:srgbClr val="000000"/>
              </a:solidFill>
              <a:latin typeface="Arial"/>
            </a:endParaRPr>
          </a:p>
        </p:txBody>
      </p:sp>
      <p:pic>
        <p:nvPicPr>
          <p:cNvPr id="65" name="" descr=""/>
          <p:cNvPicPr/>
          <p:nvPr/>
        </p:nvPicPr>
        <p:blipFill>
          <a:blip r:embed="rId1"/>
          <a:stretch/>
        </p:blipFill>
        <p:spPr>
          <a:xfrm>
            <a:off x="609480" y="1523880"/>
            <a:ext cx="358164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try drawing individual parts of the face!</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nd where could you add sha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that make the lips look more “real” or 3-dimensional?</a:t>
            </a:r>
            <a:endParaRPr b="0" lang="en-US" sz="2800" spc="-1" strike="noStrike">
              <a:solidFill>
                <a:srgbClr val="000000"/>
              </a:solidFill>
              <a:latin typeface="Arial"/>
            </a:endParaRPr>
          </a:p>
        </p:txBody>
      </p:sp>
      <p:pic>
        <p:nvPicPr>
          <p:cNvPr id="69" name="" descr="Drawing the Mouth - Step 1"/>
          <p:cNvPicPr/>
          <p:nvPr/>
        </p:nvPicPr>
        <p:blipFill>
          <a:blip r:embed="rId1"/>
          <a:stretch/>
        </p:blipFill>
        <p:spPr>
          <a:xfrm>
            <a:off x="533520" y="1676520"/>
            <a:ext cx="4190760" cy="244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 to try th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 The Initial Line Drawing The mouth is the second most expressive feature of the face. Start by drawing the subtle shape of the line that is formed as the lips meet. This will set a natural expression for the mouth. The top lip has its characteristic bow shape which varies considerably from person to person. The bottom lip is usually larger than the top and more creased with vertical stretch lines.</a:t>
            </a:r>
            <a:endParaRPr b="0" lang="en-US" sz="2000" spc="-1" strike="noStrike">
              <a:solidFill>
                <a:srgbClr val="000000"/>
              </a:solidFill>
              <a:latin typeface="Arial"/>
            </a:endParaRPr>
          </a:p>
        </p:txBody>
      </p:sp>
      <p:pic>
        <p:nvPicPr>
          <p:cNvPr id="73" name="" descr="Drawing the Mouth - Step 2"/>
          <p:cNvPicPr/>
          <p:nvPr/>
        </p:nvPicPr>
        <p:blipFill>
          <a:blip r:embed="rId1"/>
          <a:stretch/>
        </p:blipFill>
        <p:spPr>
          <a:xfrm>
            <a:off x="457200" y="1600200"/>
            <a:ext cx="4419720" cy="289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upper lip slopes inwards and is normally darker in tone as it is shaded from the 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wer lip is more fleshy with a stronger muscular structure. It tends to catch the light and is further distinguished by the shadow below its pouting 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t! Good Job!!</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ne is used to soften the edges and refine the detail of the mouth. Not only should it highlight the surface texture of the skin, but it should also make you more aware of the muscular structure that lies benea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a subtle softening around the edges of the lips which helps to blend them comfortably into the face. </a:t>
            </a:r>
            <a:endParaRPr b="0" lang="en-US" sz="2000" spc="-1" strike="noStrike">
              <a:solidFill>
                <a:srgbClr val="000000"/>
              </a:solidFill>
              <a:latin typeface="Arial"/>
            </a:endParaRPr>
          </a:p>
        </p:txBody>
      </p:sp>
      <p:pic>
        <p:nvPicPr>
          <p:cNvPr id="79" name="" descr="Drawing the Mouth - Step 3"/>
          <p:cNvPicPr/>
          <p:nvPr/>
        </p:nvPicPr>
        <p:blipFill>
          <a:blip r:embed="rId1"/>
          <a:stretch/>
        </p:blipFill>
        <p:spPr>
          <a:xfrm>
            <a:off x="533520" y="1676520"/>
            <a:ext cx="464796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raw a Hea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609480" y="1600200"/>
            <a:ext cx="411480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we apply the different shades from the chart to artwork??</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example of what you could achieve by using different shades-notice that shading makes the figure look more “real” or 3-dimensional!</a:t>
            </a:r>
            <a:endParaRPr b="0" lang="en-US" sz="2800" spc="-1" strike="noStrike">
              <a:solidFill>
                <a:srgbClr val="000000"/>
              </a:solidFill>
              <a:latin typeface="Arial"/>
            </a:endParaRPr>
          </a:p>
        </p:txBody>
      </p:sp>
      <p:pic>
        <p:nvPicPr>
          <p:cNvPr id="51" name="" descr=""/>
          <p:cNvPicPr/>
          <p:nvPr/>
        </p:nvPicPr>
        <p:blipFill>
          <a:blip r:embed="rId1"/>
          <a:stretch/>
        </p:blipFill>
        <p:spPr>
          <a:xfrm>
            <a:off x="533520" y="1447920"/>
            <a:ext cx="4257720" cy="51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for adding shad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ere your light source is. Where the light would hit the subject the most is where the least shading will 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dark shading to the area farthest away from the light source. A simple way to add shading is to use the side of your pencil tip. Rub the pencil along the area you want to shade and then smudge the marks towards the light source with you finger. This will make the marks go from dark to light as they get closer to the light sou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way to add shading is to draw lighter and lighter lines as you get closer to the light source. This is shown in the exam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ing should curve around the object to show it's sha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look at some examples!! What do you notice?</a:t>
            </a:r>
            <a:endParaRPr b="0" lang="en-US" sz="4000" spc="-1" strike="noStrike">
              <a:solidFill>
                <a:srgbClr val="000000"/>
              </a:solidFill>
              <a:latin typeface="Arial"/>
            </a:endParaRPr>
          </a:p>
        </p:txBody>
      </p:sp>
      <p:pic>
        <p:nvPicPr>
          <p:cNvPr id="61" name="" descr=""/>
          <p:cNvPicPr/>
          <p:nvPr/>
        </p:nvPicPr>
        <p:blipFill>
          <a:blip r:embed="rId1"/>
          <a:stretch/>
        </p:blipFill>
        <p:spPr>
          <a:xfrm>
            <a:off x="1371600" y="1523880"/>
            <a:ext cx="518148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15:22:33Z</dcterms:created>
  <dc:creator>Littleton Prep</dc:creator>
  <dc:description/>
  <dc:language>en-US</dc:language>
  <cp:lastModifiedBy>Littleton Prep</cp:lastModifiedBy>
  <dcterms:modified xsi:type="dcterms:W3CDTF">2008-09-23T15:30:29Z</dcterms:modified>
  <cp:revision>4</cp:revision>
  <dc:subject/>
  <dc:title>First-make a value chart!</dc:title>
</cp:coreProperties>
</file>